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445224"/>
        <c:axId val="58802154"/>
      </c:barChart>
      <c:catAx>
        <c:axId val="914452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802154"/>
        <c:crosses val="autoZero"/>
        <c:auto val="1"/>
        <c:lblAlgn val="ctr"/>
        <c:lblOffset val="100"/>
        <c:noMultiLvlLbl val="0"/>
      </c:catAx>
      <c:valAx>
        <c:axId val="588021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4452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1CEA-C90A-417A-A347-CB44DB276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5C81-D17A-4759-8057-14C303237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7523-DA6E-4024-9B9F-E4B397321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ED5D-0F49-4A1D-9F1B-4D8B8AFC7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B419-03E9-4947-9621-E94DE704A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648B-9B02-46AF-99D8-078D07778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61E1-6DDB-4BB9-9E87-261FB5B23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453D-009F-4181-8F48-C17931E64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394F-2964-4731-8970-DFD7B2C9F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7AD3-609D-48CA-8537-11A14830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7319-C281-4599-A8A9-FF51BDF7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CB96-177F-453C-B30D-5DF89BC3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064BF2-4CFC-4F02-9B29-CA809BD085E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