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13727"/>
        <c:axId val="55621620"/>
      </c:barChart>
      <c:catAx>
        <c:axId val="54113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21620"/>
        <c:crosses val="autoZero"/>
        <c:auto val="1"/>
        <c:lblAlgn val="ctr"/>
        <c:lblOffset val="100"/>
        <c:noMultiLvlLbl val="0"/>
      </c:catAx>
      <c:valAx>
        <c:axId val="55621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13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56D-D49C-4B59-8A23-1F97E64C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21E-7ECB-4243-B9ED-E077B2F2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B8C-7849-4198-9C16-E5C6DD05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EE0-AE1D-4303-AF0E-51B13319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C08-E91F-4351-9341-F760EE52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DA2-7439-4AB3-90C6-2246B2DA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B03-6EFC-4D3D-A919-F0DBF139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839-ACA1-49B0-B108-9527ABDB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79C-6AC9-4249-BBEE-41F44EA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D51-AED4-4474-AAB9-9936CE27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A9D-5288-467A-892A-87FA56F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E1A-BB58-4257-8E8F-E0909E61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1E987-97B9-472F-82A6-6B75CD839A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