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36673"/>
        <c:axId val="15128602"/>
      </c:barChart>
      <c:catAx>
        <c:axId val="16436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28602"/>
        <c:crosses val="autoZero"/>
        <c:auto val="1"/>
        <c:lblAlgn val="ctr"/>
        <c:lblOffset val="100"/>
        <c:noMultiLvlLbl val="0"/>
      </c:catAx>
      <c:valAx>
        <c:axId val="15128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6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7D6-60DA-46C2-8FA4-BF67D73C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153-9F33-4923-8791-97393EB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211-1166-4670-9619-BE3B277A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AB9-87C4-4366-9673-2EF6D64E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5CC-E195-4C2C-AE33-9CCFCD5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3D4-DD6C-4749-9737-25E9293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D8B-DA17-47EB-B03C-4C239110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CA5-7D9D-4DEE-BB40-B8DE7B4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6DE-28DF-40B1-99B7-E5687154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9CB-360D-4CCA-9F86-6649574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D38-3D96-4A11-A8BF-6AEFEDE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B19-A616-4A67-BA63-7FE1527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44A0A-0DA4-4747-81BA-CA99B6E6C0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