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FF6E-6140-4E1C-A926-C756043CF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A411-1BE4-44AA-95DD-25308E7F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E9F14B-3087-4A2A-A2F5-B86479F0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CCEB28-F77B-426E-96A2-B31C7F31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63D98-4AFD-4903-9D9D-30237170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BA769-F7DF-4EBA-8040-503F1DD4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EB4BD1-2D85-4FAA-A806-11FFBAA3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D4085-C740-4967-A23A-64EEF674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F4DE8-61F6-4230-90A7-77B9B33A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24F49-0AE1-468F-A4AB-29C8CA159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4AEAB6-2B41-4C36-9DCE-654A5442E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A871F3-AB6B-44A7-8DA3-92E45AF39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6B10-C0D0-403F-814B-671FC48F3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7E78F2-3A0C-4138-A9B5-03AA5021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C4C196-A256-4544-A741-431BD7DD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85FEF8-F2AD-4B57-95F5-655E9F34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3F7098-4DBB-473F-B4A6-91D45FA3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C8C8F5-254C-47B1-9FE7-D42ACB3A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CDD1C5-63B5-4760-A4BE-3CC89C5C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4C30AE-E138-482C-AE00-7531FFAB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A5A6E3-F604-4B0F-A003-F15C2A58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B1B300-2961-4720-8914-9F6EE6FD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0CA0DC-2F67-47A4-814A-60357FBD9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873A-F56B-4630-AB2E-01574E528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FCB4EB-EB30-41A4-B9E9-50047A0D7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D783B-BD00-4911-ABC7-D137C274B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1BEFF-A746-40CA-9468-9D4A357F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4EED8-E389-46F9-B5B9-D87EEF72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0C131-0EE7-4035-81D1-0C8BFDDA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6C765-2B91-434B-B61A-A17CB8A8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AE99B-77B8-4EA6-8806-D94CDF47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6A5E40-DCEF-46AE-B9E5-B06802BE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4400F-D57A-4B9E-B8DC-59EB7FAD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633DC3-F8D0-493F-B8B6-5F093254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BFC6-0E2D-4A60-81DF-9BA7970BA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98226-3ADE-4387-B2F5-E228857D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FD81A-EF92-4258-9ECB-4AD8439D8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597E4-2797-4109-9CA1-98D959448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A3872E-BB32-440A-8FC4-D5806F3ED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F5AB6-84FA-4F59-ABC2-C37AB795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51FF9F-72C3-48EB-A8F1-EA4309F3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463BFD-D429-4BC1-ABD7-63B456EB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61CE08-5EC0-4399-A0EB-F54C6819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81AD0C-04F5-4043-A533-04902C9A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BD6AAC-9431-47D1-9B11-480EF17D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A3E3-73CB-4C2F-BC35-99B10E83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2320A4-0300-49EC-900A-EEE4B208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4A7EB8-75E5-495A-A938-99B9FD44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1FBDCF-4F94-4461-ADA1-75821F3B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1E3302-0F6C-4AC0-9E91-F27E42BBB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7D3327-0C84-4E85-83D3-EAD1B5076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F684-8E60-4D69-8078-E315ECD4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A7E2-7D4D-465E-B6EE-14F72AAC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C470-FCFC-43D8-BC1D-2918C981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E105-4D00-449A-8464-F3272EEB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8179-8375-416C-8E4A-F5869961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7415-293D-40F0-A8D0-1246D23A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FC71F-035D-49B9-93B3-5E98654F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A528-2D5D-4987-84B0-8EB4DD06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3D6C-E3DF-49BB-B0A8-36C0BD85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1E5F-238B-4B55-AD32-55DE1BA53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C562-A479-4590-B73B-B37AACB3F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3AAAD-CCA8-4A56-8BCC-176301F72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22652-77F4-412E-9602-86501C2E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4D717-401E-439D-BD4B-8E28163E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AE2A6-55FF-4151-881D-C969D645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F1872-809E-4ABF-B72B-454999CE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D643-EF5F-400E-9F1A-B931ACC4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9A8D1-005D-4EC3-9780-E42E27C4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34ED1-0E89-455B-9352-C75A4288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76601-323A-4A7C-B442-FA507289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6E006-5C0A-4F09-A951-40F3744B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F42EE-0228-4625-BC90-F063A133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E5491-86B4-4D13-BB73-51E09774E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7A4C1-FADF-49F4-BEA4-A1C2F95C5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1C4E8-2546-42C2-8201-90B7B12F6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8A1EC-1A1C-43CF-B00F-CCBC9870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3F2B9-D669-4639-A78E-79F5012C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143D-4215-430E-B0F4-16952ACF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4805D-54D4-4C9A-A438-5328063D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167A9-AEAA-4264-B9BA-AAF6BFEA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98D3F-305A-4041-9A12-0552C3AC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124B2-D678-4143-9FAA-E35EE9C9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C62F6-244E-42B4-B9A4-A16D3DA4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AD456-EA42-4C24-B275-B881A28D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31E98-6460-45EA-A31C-648D6AF7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DE492-9D79-426A-B435-99F03008E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1F7E3-ACD2-48AC-9450-313152ACA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2087B8-12B6-4D51-A1CA-12A5A4903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F004-8EB6-42FE-A2FE-E5CB81CE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C20522-2CC4-4394-8DCC-FA58919D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987129-74B7-454F-92B7-86E01B92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C6623B-D8AA-42BE-B012-052A6873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9DFC7B-007E-4962-8302-7E740A71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222C48-C038-4864-A66A-87F871B7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FF943E-736A-4E99-ADFE-47F1961D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50A8E3-741A-4C81-B792-A36B0871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CD3FA9-3239-4AF1-83BF-94C06715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12DCEA-E2F2-4384-89FC-AE82A4C5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D6C5B3-6C96-4D4F-8B32-39794145E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8F14-8007-4EB9-A0D9-E8644341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8FC0A2-F9E3-40F4-990F-0754CBC9B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C559C-7718-4177-967C-D2CE04A67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61B6A-83FD-4D2F-BC02-95958DA3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50D4A-170A-4B87-8402-8CB2C475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A2BD4-D2EC-4EE7-8BA4-0A5FA6C8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0B0ED-91DF-43A2-969E-BECEC7F2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A8581-FD6A-4A5B-9D42-C34EAD14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051D4-5D61-4C60-A7A5-874BBD77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8E9E7-9B9D-4E0B-9621-35DF85A7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475A5-57C2-498A-AF9E-E20889C4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D17F-2114-415D-B19D-C57208FA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75F4B-A5DD-4527-8312-E7295F48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E9848-BA94-4CA6-9F91-675B0101E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6E74B-2675-49E0-9D4E-3FE0E2A4F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18D09-245B-440B-965A-8D0FE5DBB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365BA-71B0-4B52-9DB7-346E6301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7C1D5-21E1-4637-AD93-4CA73D4A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C0BE7-9498-466E-8172-34D09938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FED34-CFB1-4AB8-B779-281F7D2E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3D203-1750-49FE-986A-A2CB4018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AA921-4C72-49EC-85DA-252BE2A2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734A-6781-4AFA-873D-3220FF26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15007-5E3D-47A1-9F07-57BED751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048BC-193C-41BA-8E69-88E7E5B2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D60A5-7C80-4E2B-94A2-4D866BAD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968E2-A563-49BD-B9E6-6FF4BC452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A9370-F7AD-44CD-B9FF-42BBDEFB6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F4842-F893-4934-A8B7-EC9FAAEAF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E6B57-161F-40F3-AA19-ED3BD819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A2712-0424-43BD-A755-10663670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1D75C-AC75-431F-9FAA-41397257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9EB97-4F2C-4C54-9088-F8AF67A0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19DF-AB43-4341-AD4C-341A7C01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B1ADD-E381-4D10-8D73-BC609326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20700-9554-48B4-9653-01D3BFD4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761E6-14C3-4F1F-9B94-0E3A19F0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7C595-8602-49BA-9377-E0ED22EA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3C392-AD97-481E-B53C-F2073F1B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088C9-0F8D-4A43-842A-CE9D519F3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2829C-6824-4E5A-92DF-8D8F2E755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EDAA5F-AD6D-4319-8D74-A20613393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BABB61-6968-4CB5-B73D-6228EFBE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2DBC7-06A5-4708-9ABD-EF3BFBBC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E417-F9AC-4311-98C4-E38B68F1B256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9DC0-6EAA-43F3-A15A-8986366A9A3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91ED-92EA-491B-90FE-F4267FFB945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90DE-6A9A-48EE-A917-F3D829783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2F1D-451F-4D74-8CA8-BE7091022489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EE18-E2BA-4DF7-877F-5EBF119968B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C16E-19E3-40AD-95B7-1F200B990284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0ECA-3687-4C6A-B286-D6183BC5BA7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16ED-92D6-42BA-AFB6-9AB09839FE3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488F-8D77-4719-8AF3-AF8073A43FF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A848-E3DD-4EC8-963D-33339706DFD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70C8-DC1B-4BAF-AA7B-180E6B85F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8D22-8D10-47BA-851E-EAFFD8BC816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64F8-5B08-4AF4-BF84-7BD2B3476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D2A5-87FE-4F39-9FF2-1A635429AC6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A0CB-8785-4957-8CC9-8CC30F1FBAC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4DDB-71F1-4235-BAF7-DA3722A3835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32C5-E8D0-44CC-A79E-E476B0DF1DC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AD73-B420-4F5A-A4E2-BF2E2643495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B68D-1320-4A3F-BD51-DF82956538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4D99-0EC4-4085-98E8-CB4AB4F686D7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C44B-2A1F-4B33-B66E-12ED00FFD18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FCA6-C0C4-4A5F-947B-FB38F3106BD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B86D-9590-4099-A29A-75E1B59CE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97E7-3A56-4EF4-92BD-466359B54C0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F9CBB5-FF8E-40E2-A060-BF06F9B96856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11474-9DB4-481B-8084-1556788871A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C84F73D4-B073-4812-8D62-4EB4EA419BDF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128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BCF2B-E096-48A5-9751-D5731CFCB1AA}" type="slidenum">
              <a:t>3</a:t>
            </a:fld>
          </a:p>
        </p:txBody>
      </p:sp>
    </p:spTree>
  </p:cSld>
  <p:transition>
    <p:comb dir="horz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AFA698-3C8D-4BE8-8B8B-32CADA75755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40EE4847-AF5A-4895-9BCB-5F21D642B70A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B0665-0825-4BF0-8980-C47246BCA3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FAFC6CFC-BA87-437B-AC5F-99806AAF7450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7000"/>
                            </p:stCondLst>
                            <p:childTnLst>
                              <p:par>
                                <p:cTn id="3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9000"/>
                            </p:stCondLst>
                            <p:childTnLst>
                              <p:par>
                                <p:cTn id="3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946288-950E-45C5-AD92-0F72FFC8DD1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3F41FF80-2FE2-4115-8DA6-741837C2E8D3}" type="datetime1">
              <a:rPr lang="en-US"/>
              <a:t>07/30/26</a:t>
            </a:fld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