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4D6A54-72FC-413A-B1E2-B56DEAF030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D2B617-865D-49F6-A65A-B473185FB3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D963AF-1D4F-4928-BDBB-A20591C883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F5E358-3693-4DED-91D5-3C5A0B1B28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502C03D-AD40-4A7E-907A-B335FA34600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EAEC51-34A9-40FB-8D04-CE4834EE6A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C4DFAC-62A8-434C-92A0-FD68E54EFC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4B0C1B-117D-4CBC-BBB6-8C61CE87E2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CA2C37-80B0-45AE-BDC4-0095576B0C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A3A4BF-3ED5-4AB8-AF8D-9D04AD9838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BA9ED2-57E3-4CCD-8F37-3C9B7E929E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E7EA7A-3DE3-482B-BA47-46A3FEC607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055E00-9621-4068-BBF8-E39634F1A6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2AB167-AA5B-4C73-AB2F-471A58D341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E084D9-FDF1-4C8A-BFB6-FD85881CCB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25B438E-DD3C-4866-8CE5-DD27676A18B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3DB76C7-9A7D-4929-B160-95D50350443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76DB83-F98A-467B-9576-58F2A37427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D1C3FC-788F-4F4B-BDBC-8EE0B4472B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6F1FB9-79C0-4305-B91C-F33AA8ADD9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C3156E-4AD3-4709-A9A5-DDABAF5424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9BD7FF-8A78-4DED-910E-D020BA2E76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D3F012-95D2-441D-8B8E-50305E7561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EEC8EB-134A-4298-8D3B-5A5B50DB199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33FCF1-BC3C-42FD-AA4C-BEED58FE6E5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1C57F6-5EC0-4FCF-B757-A956E6C9F42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FD09759-4916-47D4-8A06-607812A6D09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BB5C884-3F25-4307-AFDE-1594A260A134}"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EC5224-7101-4B59-926B-3483995E5993}"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2AC95A-6E67-4AD7-A604-F7F6E225F8F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94B9AB-3ADB-4A45-BAC1-D8826DF7A4D9}"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C77326-1192-4108-991D-7753C1138089}"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2AC935-24F6-4D7F-BE8F-58425ABEF45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ABD326-6F78-45AD-BA25-5FE7A202A922}"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5D48B6-4865-4D4F-B905-072EEEC8118C}"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AFCD20-BE63-44E5-943E-D568B08F5239}"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4893B7-C12D-429D-B5B0-92730A6F0CEB}"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187181-E734-4092-9EBA-5102BCFB7EAA}"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2DE9B4-F513-4E01-A7D5-7581A982854E}"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F16A7D-9534-47A2-9724-712241E79B5F}"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5C5C49-9792-474A-918B-51A607FD599E}"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74CA7C-A164-4BA1-B733-669A814B16C8}"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CB995E-2AE6-4338-A48C-EDBC50AEBF57}"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8B8077-778F-4F10-8AE9-A5DC552FB3FA}"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540C33-0EC3-4473-A135-B8C8A1B82D94}"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B3B6C4-F700-4F92-9F7D-5EDD7E08C7D7}"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490DC4-D986-4B5E-B3DF-31DDCF73F54E}"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536D70-A3DF-44F7-BA3D-9CE693814855}"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5A91F4-11E3-4601-A9D6-32DBDA2CE196}"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D15F30-CEEB-4CAF-BE92-4923FD3CDFD6}"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F98EBA-4004-4A00-A180-EB0246DDA104}"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08FE37-6381-4460-9EF2-6ECE8F983864}"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EBA970-AF35-40E7-9807-F5C4061AA980}"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86A1F9E-6F5B-4453-B1D4-D2310326CA89}"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0B5504-2BD8-44A9-8CDA-D6C799D9FE51}"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B1B3C6-BE2C-4D7D-83D9-C94DF5A0DFE7}"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907B75-CA59-4196-8C0F-A8A26D8D7793}"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094B95-344B-4775-A46A-B98C7BDDBD30}"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35B11B-605E-4629-A9BA-3AF3C3B781CC}"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EF2FE2-8852-4D15-94E6-E94E84BAF720}"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354B10-6377-429A-A012-D3624E0B3EB8}"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BF6110-AC00-432A-96E7-D25BF0445A3D}"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28B07C-A53E-4224-9ECC-C9AFEA36F717}"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8D1F49-226C-47C5-BADA-75D35119AC27}"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085E90-FD8D-4585-85FE-19C6BA9F28A0}"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1DEA0A-519C-4245-A481-CF3CA136395B}"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BC32EA-FE49-4EB9-876E-655E99CF35CB}"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16AFA8-C9FE-4C2A-8C89-1944D9BCED9B}"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B79BB1-3468-417D-8B21-9F2AFF79F38E}"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80A0BC-055B-4781-9643-51643768972C}"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683955-BA7D-448D-B5E3-9FDB1065B6B9}"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7F8123-818E-45F6-B484-5C3EBC70CC43}"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08E12F-CC62-4DA3-81FB-BCFA7B8F665C}"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38ED47-5B10-4017-8D95-F44E6C181871}"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BE65583-D20E-410E-BDE3-3695737379D5}"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AC02D5-628D-4ECF-888F-ACD4051887C1}"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E10447-53F2-4031-A03E-861BD69DD0C6}"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270DDA2-1B09-4C46-9461-19247DF8722E}"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EFBD32-09E8-409A-84A8-E02926C64017}"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F4B728-B9CC-4FFD-B15B-683D1A2A6319}"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BF7BB8-CB5A-4B72-A870-E3DBB11E6E94}"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6E8792-BD14-4315-A8B1-430CB5578E47}"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D38FF1-43E1-45D6-88ED-1753895895AB}"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F854CC-A31D-4AD2-86D1-4DFC58E81FD8}"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3E20FA-7F5E-4BE4-A03B-EB9E9DEE421C}"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E0F6C58-7149-4C3E-B163-FF95E1CEFF0B}"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AC1680-764E-4826-9481-5C6569F0066B}"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3A4DEA-8673-4B7A-B483-01F81B043BE4}"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03E04B-2EBB-4CF3-BF8C-F4C66EB9F53F}"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91F5DA-CD4E-4B71-8B79-B9525A183077}"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219D2A-1220-4F28-8B53-E69760698E5D}"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B72F156-19A8-4E52-8620-EF42C303551F}"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74F0DA-358A-4DFE-8AC2-2A59D91D2EB7}"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3E8CEA-63D0-4096-B019-4A34F9F23ECE}"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15D4C6-6786-4599-9FCA-6F33D8C41909}"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6B37E9-A63E-4C5C-A2E9-1E660F3CB817}"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9B64F99-9778-4D0D-AC44-B09C880C7128}"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345519-BDA5-4950-A195-743B6835701C}"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40730C-2824-4631-B26D-4F71D4D44098}"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FADE7F-F542-472A-974E-27F20CFBB0D1}"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A34F9B-3ACC-49D0-BA3A-E8715BCA97EB}"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B67EB8-D6D8-4906-8154-64FE4E72822A}"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FAF780-93E0-4B7E-892C-5ACDF8BBFAA5}"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FDBAA1C-B487-4D14-A8AF-89C2CDF4BDD4}"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06BDBA-1851-4093-86AA-555C10A8F2CC}"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2BEA63-D881-4DF4-B97D-163EFC527F3F}"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22F7E8-AC36-45F4-A651-766F536380A1}"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01900A2-61A1-4E78-8AE3-DF9CCE01BFDB}"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448557-6D0F-4E0D-ACDC-93B39E4C9FC9}"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6FEE511-77C2-4396-A13A-72BE29D4E388}"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ADC2C9-2ACD-43C7-AB69-9B0955874813}"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916F32-06DA-4072-BA33-6F3FF7D0DDDA}"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88F2B5-FCCC-4ABC-A863-8055B7267B3F}"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855F47-7664-4C5B-8606-55A839BD532F}"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B75A17-0083-42ED-98E8-5E451485787F}"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41328F-3BD1-4974-88FE-CFC9F53CCDBE}"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506872-E71E-4F0C-A001-C7DE887B5A52}"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1AACEB-CCE9-4096-B8FC-34FE46F97622}"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035AEB-37DE-4CBC-BC7B-D57626E86F21}"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7908AA-BAA6-4377-962A-1613601F5C6A}"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7DA7F1-9C92-4DE0-A94A-27B8A8C97423}"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9FB31B-584D-4218-814C-1B2D85A52125}"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01BB27-9CA3-47F3-B199-90DE56DDA5CE}"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73A300-10AB-4D01-93C3-0310455556EE}"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27F91D-1908-47E4-AD29-38BB2C872E89}"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9A4F0D8-928E-4D03-AFD9-6E18E0B86471}"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D7A57D-4D56-49F4-BB93-EA6E4A931D24}"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AEBA9A-2669-4AF2-9E29-D9C059D1D0CA}"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607238-C3D9-4890-B111-EE7D6D628B4D}"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39177F-D599-454A-9064-CE406208A017}"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C3D68B-F839-4015-A7BF-14E0557E0C00}"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66D8C5-50B3-411E-99B1-EFE7CB7114F3}"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A228F0-97D7-411A-82B8-634D04F02C80}"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99E56A-E288-46A4-9C2D-C14AD7EC948C}"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6D2479-3866-480A-AA84-474C480B1586}"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68B703-85FC-45A6-93FC-8ADF3D20969D}"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AE6157-14DD-4D66-B408-D9B1A6DA2A30}"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3790E1-4225-407A-A35C-D3BFE66A7A3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919B2B-627A-4F4A-AC2B-8BA1E042BCAF}"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0A70C0-10A1-4E34-9B4C-7E2617A7AA0D}"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345609-C53B-48FD-99CD-C3E769F5AFF9}"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72073E-8553-4388-AE02-2FA5F3359B5C}"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E43F60-E0B1-4E1B-A1AF-75277D6AC115}"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8FF80F-EECE-44FD-AFF2-59444442A005}"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32E7CC-D940-4370-ACC2-0E88B0C762F6}"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CF35EA-91FF-4CD1-B84B-0A53815AAD74}"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E47741-742F-4A3B-8388-D91ED881BEA1}"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4E785B-6139-4E55-9158-27D54BEDF1D3}"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55F16A-7B9D-44F4-8143-39D0FF73F45A}"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B5A407-D997-47D7-9A06-A03634755381}"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70B970-D5D7-46DF-8EED-43BAB6217F0E}"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B7DF4A-B158-4CF4-A13A-FB94037AD745}"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D0BCCC-6195-40A4-B9C8-E4FD1F414242}"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160C690-D369-4AD1-9B8C-EDCE7FCDF2DF}"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E2F295-D212-42D1-8736-0D6B8EE87E2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ECCF64-81B6-46F6-ACDE-E383472BF53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092D3E-68BB-4E86-9A04-CA50107BD1C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36057C-F578-45B3-94A7-1AF0A3DEF3B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C7449F-6E64-4E69-B484-A5DF0166058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BEB514-D70E-458D-9CC4-C5737199B36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35E7F13-E1E2-46AD-8CBD-A0B74851CAC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2D8F56-6C46-4E1B-9B41-98F01C549FB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CE87FE-4FD8-4C9F-B5C8-7D4426E4612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3A1A3A-4C06-41DC-9AD0-359237942AD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5BED73-3B57-4264-8397-07607A21336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E9C664-4623-4B98-9C3C-088EF4AE918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045F5D-EE33-43D4-A1F5-A4FC174D650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87F3EC-054D-4EE8-8347-A3A270022F9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6FACA3-8DDF-4B92-A2FA-EEB93C91A37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A30F6B-A738-4882-926A-B4C9F606F07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E3D8FD-F9F4-4A53-BC41-2ECB26DC408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269E64-A7D9-4FE5-BB0A-70B27F4B33D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C8165C-1A38-4609-B931-417BB26892D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396C22-642A-46B3-8263-E6595C67E8E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79F672-EDF3-4E74-BE6D-267A2168761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918AD6-1F0A-43D0-9B2F-30B3256B444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765BCC-69D8-42A0-8DD7-3DEE30765FD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55CA01-062C-4012-AEB6-9E62EB699CB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E36DB5-057E-483A-876F-782C413D5F0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3EDD86-8E06-4E6F-8C24-9164ED42BD3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A8629C-F515-491D-9584-332BF699B85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DDA5B0-09A8-4F0B-BF6F-5D6D1B5447B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D29E52-4524-4BA7-B1AF-6C76FEC79AD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E2EFC8-9097-4B02-91E5-AF79028F6E5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FD009E-8C26-41F2-9F8F-BBEB980708E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437877-1B7C-43DB-AB2D-D92056FDAD9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F2D7BC-DE84-4F2B-B84D-9F624C1AFE9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F2F0B6-2C0E-43D6-B698-3BF232212CD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2985F8-B7A4-428F-A1DC-233E40E2934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2D55A8-6B6D-4591-8CBD-3E6CFB1C09D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1DD7A2-A370-4637-A5F4-DCA56388B11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A35B52-BEC5-49E8-AD6E-0C5B85CBF9EC}"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2B18F2-BD87-4F0F-9C49-AF6091876E0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5894FF-C10A-48E6-8795-3847C53C24E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739062-5EE5-48B0-84AE-1CA932094EF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E18661-8C42-481F-85A4-0790E0A9CAF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78AD99-4925-47E2-882D-675603732C3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2B5413-393F-4DB0-AC79-F463902C9C95}"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7CEDA3-1812-45B7-A8B8-915A1C6EFAC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3A2CD7-D314-4057-BA85-EFD9F0578C9D}"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1D6C67-AC56-48B5-96FA-CB5E8204E2F4}"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48BEFEA-BF12-4DF0-BC78-847C16790E6B}"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4C0B65-5D54-4E21-A1ED-88FB3A5E747E}"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021C76-CFC0-48CD-82D9-6372C54135A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EA1E17-237A-449D-9D7C-214D8EB1949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12D703-E53F-45AD-921B-DA113A29C75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4B9E7E-5106-418D-803C-851CA32A5379}"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3A3181-1EEB-438F-83C3-A63EB3E1BC3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A57673-F754-4CEE-94C9-7F9B1461982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ADF99B-650F-46A9-BA27-9A47DFCEE42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AB0F426-927C-4BCE-8494-429C16AAD450}"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F35CE3-7213-4146-8657-41F91D1FC076}"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1AB8A1-9C72-4CE3-A241-B395776D94A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C90A46-7B89-406E-979B-217FD52AD011}"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A90D21-64E3-41ED-9B5A-A8FB4107AEE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0F848F-E20F-4ADE-B3F6-7D25A148017E}"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ABB968-57BB-4F83-8953-59082FCDEFF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01C16E-41A8-4CDD-B45D-E261BFF725C3}"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825A2D-02C7-4558-8DA7-0A8865592C7E}"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6512EC-37E6-4D66-967D-F9A3DBDC7AF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954E94-549C-445F-96E3-6FF8AC022721}"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3935D8-B788-407D-8565-C7CAF0FC073C}"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3FAB17-EC80-40BB-A9B0-197F4E7BABC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AE92D0-596A-4A08-961B-141047FC0D27}"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433A49-5C7B-40D7-AFD3-C2734D3AFF18}"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926FE13-6482-468B-B13F-98653B66623D}"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322569-FDC0-44C9-B061-B9A5A4EDB64C}"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3BE161-1C55-4EA9-AE08-32CAC6A21697}"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861217-06AB-42EF-80E7-12E6D88127A2}"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32F110-A2A3-4371-9D41-A6458A5FC07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807B26-EA01-4414-A387-90BD844E47A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F76A63-474C-40C2-8F44-163E0BBDDA2F}"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970ED7-8D2F-448F-A7B5-0406B6B76C12}"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305024-1185-4B5E-A05B-57AC78D67ECC}"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471FB6-93F8-4EE1-A131-6273A90548A0}"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FD3B53-2896-4427-AB5A-C66D97EDE9B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A8179B-7BC5-4D21-9DD2-207087D47013}"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189320-3F8B-4A5E-98F2-F7800FDC3721}"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26AE9F-E1ED-4500-AB4E-2F2126E6B25E}"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