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25BB-B815-46DC-A2D9-8DA5FA82F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9AEC-E59B-4BCE-8EA3-FCA83C54C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4513-A93E-4087-AC89-C9C46FBF9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4F4A-D35C-4363-BF4F-EC20E75F6C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408E-2BD8-4A0C-A9F0-A8A0459F6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92DB4-6EB1-4507-A3E4-856CBAE15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CE841-C166-4EF0-9232-CE52FCD20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FB003-B9CC-4D1A-8F3C-C762E6FA8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EC0A-C7DF-443A-A9D8-7BD52E7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8FD3-13C4-475D-A397-ECDD5624D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FDA2-0730-4CFB-8A0C-3D6A3B5C3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5A533-EA60-4618-9A0E-286CE5477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F4A19-1609-40AB-B7CB-C162E51CEF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eagle.to/" TargetMode="External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3240" y="999720"/>
            <a:ext cx="66042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ruda: Mythical Link to the CL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93240" y="1834920"/>
            <a:ext cx="6604200" cy="121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18th Annual Tcl Conferen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Joe Mistachki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Advanced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Excel Automatio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load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-import –declare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set o [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object create -alias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\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Microsoft.Office.Interop.Excel.ApplicationClass]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$o</a:t>
            </a: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 Visible tru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Application Domai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appdomain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Running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run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CLR 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vers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v2.0.5072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Internal 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umpsta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ackageMutex 0x013CE958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hModule 0x1000000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pClrRuntimeHost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0x00626C50 bClrStarted 1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trospection, Package 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% 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packagei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1.0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fba64d41d7ee08985af28564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437fc26ead7c8ef6 {2011-↩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↪</a:t>
            </a: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10-01 22:35:24 UTC}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CLR Manage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execute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ar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lrsto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Managed Code Interactio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tartup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control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detach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Courier New"/>
              </a:rPr>
              <a:t>garuda </a:t>
            </a:r>
            <a:r>
              <a:rPr b="1" lang="en-US" sz="4000" spc="-1" strike="noStrike">
                <a:solidFill>
                  <a:srgbClr val="ffff00"/>
                </a:solidFill>
                <a:latin typeface="Courier New"/>
              </a:rPr>
              <a:t>shutdown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Times New Roman"/>
              </a:rPr>
              <a:t>Demonstration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ffff"/>
                </a:solidFill>
                <a:latin typeface="Times New Roman"/>
              </a:rPr>
              <a:t>Questions and Answers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at is Garuda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aruda is an open-source Tcl package capable of loading and interacting with the CL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esigned primarily for use with Eagl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es not work on Mono because it lacks the native CLR AP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ot TEA compliant; however, I would appreciate any help making it so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rmAutofit/>
          </a:bodyPr>
          <a:p>
            <a:pPr marL="343080" indent="0" algn="ctr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 u="sng">
                <a:solidFill>
                  <a:srgbClr val="92cddc"/>
                </a:solidFill>
                <a:uFillTx/>
                <a:latin typeface="Times New Roman"/>
                <a:hlinkClick r:id="rId2"/>
              </a:rPr>
              <a:t>http://eagle.to/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do I install it?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quires Tcl 8.4 or higher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py files to a directory in the </a:t>
            </a: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$auto_path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ow do I load it?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mostly automatically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Courier New"/>
              </a:rPr>
              <a:t>eagle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{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Eagle script her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# (optional)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Diagnostic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The Tcl command (with 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argument) used to log all 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lifecycle events and metho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calls.  May be defined as 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no-op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logComm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tartup Configuration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very rarely, if ever, required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assemblyPath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assembly fil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type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qualified class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Flag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see GarudaInt.h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startupMethodName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tartup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"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2400" spc="-1" strike="noStrike">
                <a:solidFill>
                  <a:srgbClr val="ffff00"/>
                </a:solidFill>
                <a:latin typeface="Courier New"/>
              </a:rPr>
              <a:t>methodArguments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; # extra arg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Auto-Loader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Enviro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useRegistr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envV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rootRegistryKey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Cl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tartBrid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R Method Configuration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send "control" directiv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control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detach Tcl interpre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detach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# initiate bridge shutdow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set Garuda::</a:t>
            </a:r>
            <a:r>
              <a:rPr b="1" lang="en-US" sz="3200" spc="-1" strike="noStrike">
                <a:solidFill>
                  <a:srgbClr val="ffff00"/>
                </a:solidFill>
                <a:latin typeface="Courier New"/>
              </a:rPr>
              <a:t>shutdownMethodNam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Simple Usage</a:t>
            </a:r>
            <a:br>
              <a:rPr sz="4000"/>
            </a:b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(create and invoke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package require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Garuda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eagle {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1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invoke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$o1 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set o2 [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object create –alias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Foo]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00"/>
                </a:solidFill>
                <a:latin typeface="Courier New"/>
              </a:rPr>
              <a:t>$o2 </a:t>
            </a: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DoSometh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01-01-01T07:00:00Z</dcterms:created>
  <dc:creator/>
  <dc:description/>
  <dc:language>en-US</dc:language>
  <cp:lastModifiedBy/>
  <dcterms:modified xsi:type="dcterms:W3CDTF">2011-10-22T02:42:25Z</dcterms:modified>
  <cp:revision>4</cp:revision>
  <dc:subject>Garuda</dc:subject>
  <dc:title>Garuda: Mythical Link to the CLR</dc:title>
</cp:coreProperties>
</file>