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095-ED66-4085-9E90-215ED3EE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EF6-6969-47B9-9A71-2E8CECF9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13693-F5FF-41EC-9171-56CB890B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3CBC3-C783-4565-99B9-299D5965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CB086-3719-4224-B2AC-4B6B8E77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9A141-D741-45DA-9D01-A091A45E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3DE61-7BD7-423A-8895-549FE7A4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4B3E9-1415-489B-BB6E-05399C69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6AFF3-6A5B-47BA-9271-8929D53F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9C7DF-FC82-40E9-B9F4-70C46BA7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C5C18-365A-4234-8A19-167A8192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4EA832-1BD7-4700-919F-F0C614AE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04E-985D-4827-9047-3C2E4842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5BAF92-D491-49ED-8A8D-AB64A73C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35D2C5-585A-466A-AE5A-735C6C4F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2E87A7-368F-46A6-832F-F5101CB0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EA7BAC-8487-4DFB-A59E-832AA8D3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ED5D8A-05EE-4D50-A6A9-46413CD0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EC735B-57D9-482C-9959-33014AE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8B309A-685C-4C70-9EF2-8965792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B0D20B-3246-445E-9094-4876EDB7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7F5DFC-A3FB-4B8B-B092-DEB4E9C4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D115E1-1928-4E30-9A0A-74FABCFF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B67-4F88-44C2-8255-7167D221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4192EA-A297-4369-B003-14EEC1B8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CC9AD-6AEF-4C2A-BCB0-52465816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98DB1-16F1-4C6D-A217-5B14965C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4C731-A486-423B-8197-5D3FC037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B9480-9E12-4D3A-8394-ADC41238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D2D28-6384-46B4-AED2-08F1CA0E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268C3-C8B2-46E7-8AFE-3614C3FF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C904E-2D90-42E5-BEB1-057AADD1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15046-2714-48D4-BF8D-2C2BDD8E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E6407-335D-4DE8-B495-C12C6664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69BA-E213-452F-A27D-B73B68A6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00E1F-4833-477D-9305-44C38D7C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D7396-7501-4D8F-9097-320469E2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A6B5B-7832-4DD6-808C-2CA03138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A82F8-D8BD-48DA-AD7D-0FF8BC87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A8E16-AAD9-44AE-B3D0-361D0192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6E844-6BED-4EC0-BFF9-B139A538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FC9E7-8014-40DC-B128-A08F276D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3F0C8-DA44-4DD3-9DBE-D19085BA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27853-440E-467F-B449-36CFDD99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65355-1426-456D-A2D0-4764F5D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D74A-187D-4AF4-A002-0CF4B063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46306-8B62-4219-8646-46516342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65102-091D-4895-865C-A76F48EF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19F0D-1770-44FC-A0DD-7F727CAC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CD53E-E704-4CF1-832B-13B80B15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6DCD2-1A32-4718-96A8-4EE42C6D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F39C-C741-426B-A9B5-69EFB90C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9999-30CA-4C40-85AC-AF7AC27C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71C4-03A8-4D03-AA1E-B3C7F922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7CE9-3514-4F29-AEEB-8916BD86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5DDA-C8A9-42E0-A5D8-4BD03A06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26C-36B0-43D1-8304-149DED9D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51C8-FB2A-41BD-A819-64DDDBD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37AB-482C-424C-9D02-6DB88A1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ED78-4C1C-4D38-824E-8953A2F9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83AF-0B58-4ADC-BCB6-5A992D5A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A388-97D3-491A-85D9-CF45876D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B9AE-5BCF-46D4-B755-C3E665C7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7F59-3BA1-439A-9078-054244C3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8BE3-207C-4C87-A3AB-283F3A79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5020-7671-47D6-BD57-BA6E7FC7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5859-21C6-4C98-8B71-A0864457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926-B63F-4456-9EEB-0C9974F5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C5A14-10C2-4F2E-AE40-A088F8BA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413A-98A6-444E-9376-B6BD46B3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68AF-CD0E-441E-B794-1A0FD3D7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59EB-A932-4CA3-93D5-15F3ABEB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2D9A-6C20-4DC4-8426-81684163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704B-2B57-4ABD-BE53-F14D239A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6809-7FC8-4F58-BDC0-F38ADFF4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8EBF5-AD42-401D-88A5-1AD481FD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94454-6513-4A9D-820F-08C1DC5A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052D-94F0-4E4B-82D5-E9BE8D27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73D-63C1-4417-AD87-9264DED8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DA07-265F-41E2-9DF5-4D3EDEEC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64E41-9F19-4864-A589-8E135C93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E829-8B70-46B0-8136-D206B813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88717-1870-45B2-8A73-8F565146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E3D7C-3F97-41C2-9875-9FAD064C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9458-C5E6-45E2-80C5-720D5D2B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67FA8-6573-40AE-9FBE-DDA5F725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DCB54-702F-4012-839F-501539CB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FD4F-EEAF-4F9A-B708-E90615B9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01837-E85C-4E0E-96AA-DA93CF42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D40-6B76-4628-83EA-0EAF2BD9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C51FA-0531-4D35-96C5-D6E65791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5D0B3-5606-42BA-B840-7EB9DDDB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AA608-AE2C-4C0A-BB55-BFF5F7B5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8E3F3-FABD-45DD-9598-83B2DEFE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F40AF-45DB-4FEF-BF64-9D723AB8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539C1-0FDA-4FFF-AC08-26AC5ABA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6E1BF-B386-447E-B9E9-CD04B9DD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AEE72-351D-45AF-A668-EE1F718B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C1EAC-85BB-4477-963B-6AD59E39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7E386-7148-4D6C-8326-CDEC0EE3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0BC-4B41-4F7F-8DE2-EA4F2326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30D33-DC61-4FBB-8B80-455C266D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834A4-B714-4CFE-B12B-143CFDD3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EEA01-C6ED-4D30-8C5B-07836E69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8FD8B-ADE5-4EEA-B8B3-63CBAAF9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D9A69-5A92-4D8E-9199-0304869A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FDD27-834B-4614-83C0-51CA3AA9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4ABCB-942A-44A6-B867-C904E137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75CFF-C391-47F1-A405-D8F9119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27B16-1356-4C9A-A562-8C51D67A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317C2-E694-4D42-95E2-6A8B6956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F25-7299-41AA-828E-0636230D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8CF31-C2D0-4F48-A3D6-65660C15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1DC32-F511-4A13-8767-88A80712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DBF9A-5F55-4E7A-B0A5-32E8C1AD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589A2-E3F5-404A-8F4D-AB7E8DB0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D9245-2B28-4FA7-9A03-696286E1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1A582-E059-44CC-A8B4-72CDEA63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D319E-9BBC-4393-B76A-6750AF52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4C9D6-4761-4C86-AC26-AD9ABE29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F0FD5-FA8D-4FE3-BD07-7C01DFDC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8A41-E3ED-4B0C-A7BE-3A04975C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913-5E88-4D71-AC6C-DC2A2B62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D9012-8BA8-4B23-80DF-11573474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92260-470B-43A4-BD02-D62C126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7B002-A59D-4D1A-A37C-A8821C18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69E1D-28D4-4582-BE26-DD95911F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AEDCF-DD33-435D-9F48-13A4EDA2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3EC58-86F1-412C-94F9-4317366C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E4913-5BCD-4589-A8A4-96DDB7C2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4E99-2B60-4C66-834E-8259CA4F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A1A83-CFAF-4D80-8B7A-05C51CF5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70B51-6CD4-42CC-B098-612D146C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C70-D8AF-4261-9A00-6EED3DF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D11FA-642E-455B-93DC-09B5EF18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24617-4089-46C0-B006-F9FBEFFF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9CAA7-8CCE-412A-9C91-68424789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A010-8CC2-42A2-AA78-85964EA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76DDC-AF57-4158-A3C4-B0538EBD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2EB51-37DA-4530-8D0D-B09981AD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C0EC5-228D-4403-A0DD-0EFBEDE1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40C78-93DF-413E-8131-665C466F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B5F44-0A9D-492D-B1D0-0BEA38C3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4C32E-3887-49D0-8309-C1DD623C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C778-A4E3-4036-B064-9EB91C8B8A6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7181-BD17-49C1-9E6E-5A32CE26F3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BE67-C7B6-422C-8ABF-F46EA9067C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C15E-2FD0-4E77-94C3-A58F4988D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550D-2983-4D9F-80C9-A245DF44E1A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4256-733A-4F6D-86F8-5C9ACB5DED3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C65-AEE9-4223-B1CB-FF182DF29F8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6BDC-4E4A-49FB-B51C-592768ACA90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DA78-1AD5-4E89-BCDA-0870BEFFF4E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11D2-48B7-4DF4-BB5C-D893381A3D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2906-70B3-48FE-8B2E-37CC6BF4F0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7248-13C0-4FF8-BC7E-FA7B85205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52B2-6528-4A7F-8752-06EBB2DCB1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944C-E1B3-40DB-B0C1-7AFE87A4E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E78F-852B-4E7C-9D24-5A6D9B7CE8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23B6-535E-4A5F-9817-B00A1A16107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91C6-56E7-4DB9-9381-F5312D1F9EB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4A4-400A-4F60-8560-3CF72E05350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FFAC-8E87-4B70-B21E-5866C0B2AA4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3FBF-827F-4F7C-BDAE-3E675524B5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3415-8B37-42D7-B657-C7C6D377919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7018-CBAB-47CD-ADEC-0AA11EDAD8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56B7-4C37-4F35-B271-2310D01712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F9BA-8E7C-4AE1-89D0-416CE2566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C04-EF64-41FD-A99F-F9603A2083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D22B9-9D77-45C3-8AE2-74CCEE3CA928}" type="datetime1">
              <a:rPr lang="en-US"/>
              <a:t>07/30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654E1-EAF8-40A1-9083-8C2A957D48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53AA75F-E063-415B-B4C7-21C5380EE30D}" type="datetime1">
              <a:rPr lang="en-US"/>
              <a:t>07/30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1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2728B-C22F-41B3-ACB7-D4B2A2D2693C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7C01E-0C7A-4D68-B030-A6E5BCF7138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FAA7739-2D39-480B-94CC-82BBF8AB8194}" type="datetime1">
              <a:rPr lang="en-US"/>
              <a:t>07/30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D19AC-7E8B-45EC-9512-4DBC042615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5B42E31-C31D-4D7A-AD67-74EF09AA1F7A}" type="datetime1">
              <a:rPr lang="en-US"/>
              <a:t>07/30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730BE-3847-44D7-99FA-FAF8B2A115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31F692B-0FE2-41E7-BD24-4DCB91330350}" type="datetime1">
              <a:rPr lang="en-US"/>
              <a:t>07/30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