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1E609-9479-4BEC-AF5B-9E556C8B1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FF457-E6D2-479D-ADE9-28D19F149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549D1-E11E-468A-ADBA-495C1ED29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2A8E0-1DA1-4FE3-92FD-57EB4CB2E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275ED-C8DC-4D26-9419-25B2C086B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4AB97-B35A-480D-8F34-753F50B53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73FB8-ECDE-4F13-941D-3C442B88B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1366C-D128-4A2D-8BA7-5D7B5A33E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F68FF-505D-49AB-8759-030BCFF0D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3AF97-A42F-4982-A3B3-B0922A03A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6B5B3-81FF-4D61-ABA0-14A62EAF7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90575-D579-4B57-9988-1A9F37E62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957D2-7A2D-42CB-94DB-B858DA0A1ABE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3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5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7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9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1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3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9"/>
              <a:gd name="adj2" fmla="val 49994"/>
              <a:gd name="adj3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5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4"/>
              <a:gd name="adj2" fmla="val 49994"/>
              <a:gd name="adj3" fmla="val 499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7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50000"/>
              <a:gd name="adj2" fmla="val 49994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00:13Z</dcterms:created>
  <dc:creator>tb121644</dc:creator>
  <dc:description/>
  <dc:language>en-US</dc:language>
  <cp:lastModifiedBy>tb121644</cp:lastModifiedBy>
  <dcterms:modified xsi:type="dcterms:W3CDTF">2005-05-25T09:04:25Z</dcterms:modified>
  <cp:revision>2</cp:revision>
  <dc:subject/>
  <dc:title>Slide 1</dc:title>
</cp:coreProperties>
</file>