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8779013"/>
        <c:axId val="60664174"/>
      </c:barChart>
      <c:catAx>
        <c:axId val="3877901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0664174"/>
        <c:crosses val="autoZero"/>
        <c:auto val="1"/>
        <c:lblAlgn val="ctr"/>
        <c:lblOffset val="100"/>
        <c:noMultiLvlLbl val="0"/>
      </c:catAx>
      <c:valAx>
        <c:axId val="606641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877901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37F7-17FF-40DC-B153-7B14ABF00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5B5BC-50B3-4702-AACC-5D9B317AB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DA3AB-95DA-43D7-9688-FE70BCAEE7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4DE45-DB23-4A88-BA76-289934275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75B8-601F-43DC-A183-8CF59408B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C2051-A5F0-48C7-83EF-96E3B972C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42BA-D4CB-4548-886E-EA782CB5F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7326C-6B24-4780-8CC5-F1C0F80A8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4E4C7-BD75-47D5-A71E-74866A23D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2E46-B740-4D3D-857C-F1ECAAA0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AED07-D2A9-40C6-9698-740DA78B4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E221C-16AD-4F05-B1AF-E796626F1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A97B06-0B35-4D84-A6FD-66E43B9847F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