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81219"/>
        <c:axId val="98489570"/>
      </c:barChart>
      <c:catAx>
        <c:axId val="37981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89570"/>
        <c:crosses val="autoZero"/>
        <c:auto val="1"/>
        <c:lblAlgn val="ctr"/>
        <c:lblOffset val="100"/>
        <c:noMultiLvlLbl val="0"/>
      </c:catAx>
      <c:valAx>
        <c:axId val="98489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81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998-6BA8-48A6-9FB1-98378C94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732-F816-4B45-A22C-5ABC5443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818-510F-44B1-A266-11F28152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5BB-258E-4EBA-8597-775A49C7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576-0E30-412E-88E8-52D364EE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6DD-436B-4D38-985A-A2C5B6AD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AC9-ABCB-4000-9158-DB50E322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DA1-5E19-415A-B590-BF8EC8A2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35B-68F8-43EF-B35C-5FB7DB6B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1F8-8B27-4590-A812-835CB4B4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0B5-FC38-42B5-A381-FC134B79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CC3-8DCB-4C09-A39A-09867BA2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0E495-48C2-41F0-A519-2814B15AED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