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30803"/>
        <c:axId val="99256657"/>
      </c:barChart>
      <c:catAx>
        <c:axId val="66230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56657"/>
        <c:crosses val="autoZero"/>
        <c:auto val="1"/>
        <c:lblAlgn val="ctr"/>
        <c:lblOffset val="100"/>
        <c:noMultiLvlLbl val="0"/>
      </c:catAx>
      <c:valAx>
        <c:axId val="992566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30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B037-FE77-47FF-869F-1E8F4A91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363-554C-4570-B65F-90902114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E29-5D17-4341-818C-D380907E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87E6-5CE6-4721-BF5F-7A67177E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AF63-0FB4-4D90-9C44-00539FDD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0B13-CDDE-403A-9340-6BF4F78B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DAD-5C2B-44A3-897D-0D5FD735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9285-DEBD-47BC-9DAE-59EFFB0B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AEF-8F10-43CB-B1A8-774788CD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FED-C662-4A4F-9D4C-6A7FF0A3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B57-2E47-4871-8DD4-1DC1F436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3C8C-D9F8-4AAB-B6F4-EBC6D918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B0EB2-5B38-406B-9A16-22C83CB0C3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