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64223"/>
        <c:axId val="64751041"/>
      </c:barChart>
      <c:catAx>
        <c:axId val="36064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1041"/>
        <c:crosses val="autoZero"/>
        <c:auto val="1"/>
        <c:lblAlgn val="ctr"/>
        <c:lblOffset val="100"/>
        <c:noMultiLvlLbl val="0"/>
      </c:catAx>
      <c:valAx>
        <c:axId val="64751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64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B3F-53FB-4547-9BB6-7239EDB2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E38-49E1-4D2C-A50D-EB873BD0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827-03BA-4BCC-A245-6F5D3A5D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D81-A135-4C45-94CD-E5F3F97E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FB0-D5C4-4D0A-90EF-B7AA326A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374-BC7D-4220-BB53-85575246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2F6-0EA0-4F47-A174-50E09E0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AD7-69E0-4282-B7EB-86734C9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C71-C7E6-4799-85DA-1CEF35DF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683-9280-4291-9759-F734229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C11-0563-4673-86C1-0994CB4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192-AF13-4ABA-A9EB-3F0ADD6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5BCC2-AF9A-48AD-8772-54FEA5736D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