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26429"/>
        <c:axId val="6720570"/>
      </c:barChart>
      <c:catAx>
        <c:axId val="47926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0570"/>
        <c:crosses val="autoZero"/>
        <c:auto val="1"/>
        <c:lblAlgn val="ctr"/>
        <c:lblOffset val="100"/>
        <c:noMultiLvlLbl val="0"/>
      </c:catAx>
      <c:valAx>
        <c:axId val="6720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26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7AD-6041-4D27-9A7A-9C25F915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8E3-C53E-4851-914F-EF312A35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A2D-1A97-411C-950D-F461F9B4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F25-3CB9-4F7D-8C76-AAB485E7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5B6-CB34-44B2-89E0-5B160ADC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93D-D03E-435E-A358-9AB94D35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D04-B5E6-4CA8-8C4F-E411F117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865-9C22-4BEE-B82D-299DC076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0C8-D6D4-44B9-8229-F5DD658B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D7A-4F0E-48D8-A223-7975F759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89B-BA36-4B1F-92A4-705170BB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D2E-87AA-4312-A61D-AF81A491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851A2-F38A-4261-905D-6CF04ECB9E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