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31995"/>
        <c:axId val="10285689"/>
      </c:barChart>
      <c:catAx>
        <c:axId val="93331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85689"/>
        <c:crosses val="autoZero"/>
        <c:auto val="1"/>
        <c:lblAlgn val="ctr"/>
        <c:lblOffset val="100"/>
        <c:noMultiLvlLbl val="0"/>
      </c:catAx>
      <c:valAx>
        <c:axId val="10285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31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288-6E9D-4F98-B9C6-068967B6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3F1-E460-4C60-B1DD-371D76A2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2AF-778D-47D5-A845-14A02836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7CB-45BC-4DA0-B7DC-E0DC6E09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4AA-8229-470E-986F-67DDEA36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116-7C45-453E-95FE-A48B0C43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7FD-DCA2-46F7-9CC0-28C4EE71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D67-7FA2-402A-A768-9BDD7B0E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82E-D8F9-492B-BB4C-64188EA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35E-166F-46A1-8994-6BFC99E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7FB-75CE-470C-A175-A21D62C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7A5-CCD0-4ACF-AD16-8813243A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8943C-CBB3-4667-B3B8-C6EADFC0A5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