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74194"/>
        <c:axId val="74500691"/>
      </c:barChart>
      <c:catAx>
        <c:axId val="76474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0691"/>
        <c:crosses val="autoZero"/>
        <c:auto val="1"/>
        <c:lblAlgn val="ctr"/>
        <c:lblOffset val="100"/>
        <c:noMultiLvlLbl val="0"/>
      </c:catAx>
      <c:valAx>
        <c:axId val="74500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74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575-C038-4AFE-869E-E04B2D41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7EC-3F6D-4250-AA67-85C73212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B72-9740-4764-8549-A03EC3C8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61C-2EBD-4F79-9D0E-7B6DFE2B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9BC-3B8E-4C92-BB91-294404EA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4EE-1294-46CA-B41D-B99969E9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6C5-831E-43D8-8807-5E9C656C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C57-9193-4007-BD1D-62A2E192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AF8-B6CF-4C5C-BE6A-D144C0A3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7D8-438B-46E3-B2AC-ABA0447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4A1-4514-4162-994B-49AA56D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0EF-153A-4F53-9848-FE9D57A3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2D834-3FCA-4365-A128-16549A7FC2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