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103549"/>
        <c:axId val="63765709"/>
      </c:barChart>
      <c:catAx>
        <c:axId val="921035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765709"/>
        <c:crosses val="autoZero"/>
        <c:auto val="1"/>
        <c:lblAlgn val="ctr"/>
        <c:lblOffset val="100"/>
        <c:noMultiLvlLbl val="0"/>
      </c:catAx>
      <c:valAx>
        <c:axId val="637657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1035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D90F-F74A-42D4-80F3-E7109F9EB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0546-E694-4324-A369-9301A9F03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4C80-F376-48D4-9D40-6319DBD16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F1C9-3114-4994-B69A-4AC7C2C37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5DE7-120A-4EB1-9A3F-6B2CA9DB5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14E0-B31E-4040-B97E-05D9973A3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F4FB-5EC0-47D5-B6A9-C60F7F343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CB87-12E2-4934-81DA-21A80CA32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315B-F206-4991-8F64-94FE91D90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B8F4-6C3C-4046-8A31-914613EFB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3379-2BF1-40EB-AD9A-AE51E8743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F615-8CAA-4814-B278-294D6726C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D1286E-9A87-4D7C-A430-C3B524FA7F1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