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30493"/>
        <c:axId val="47655122"/>
      </c:barChart>
      <c:catAx>
        <c:axId val="63630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55122"/>
        <c:crosses val="autoZero"/>
        <c:auto val="1"/>
        <c:lblAlgn val="ctr"/>
        <c:lblOffset val="100"/>
        <c:noMultiLvlLbl val="0"/>
      </c:catAx>
      <c:valAx>
        <c:axId val="47655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30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B74-DCAE-4317-8631-8A7C017A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796-CE8D-4240-9E82-1D0AAE99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091-F781-4D32-9CCE-BCC15711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146-3497-43BB-B53E-BC7B5BA9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B3E-888B-49EC-B8AF-EED10457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F6C-6F70-44A3-B96B-271DB5DB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C2E-4164-4D20-9C70-EDBEE92A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3E8-1870-44AA-8E80-272A3617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69D-1D7A-4B2F-9CC4-02F7ADB0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69B-89F4-46F5-AF82-A7FA4E3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D92-16BE-486B-B535-6EBAFEB2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F14-42B1-4396-88A3-942B1DF8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E8BCB-7D98-47CE-949F-D669142D57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