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169923"/>
        <c:axId val="76922749"/>
      </c:barChart>
      <c:catAx>
        <c:axId val="801699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22749"/>
        <c:crosses val="autoZero"/>
        <c:auto val="1"/>
        <c:lblAlgn val="ctr"/>
        <c:lblOffset val="100"/>
        <c:noMultiLvlLbl val="0"/>
      </c:catAx>
      <c:valAx>
        <c:axId val="769227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1699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6899-D7C0-44EA-8DE5-86E6073D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A6F2-5F48-43C4-9D74-2AFB79C7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A7EA-19D7-4BE9-9C72-F91EE620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8F74-96F6-4A08-ADC2-7CBA27003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FCA5-DDE1-4B53-8CA1-361262E2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9AF9-A32E-435F-A772-EDF1C66D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BCF0-AC42-4ED2-BC93-D8788B14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E6C4-0774-4E29-AB44-7A52846E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7ED7-6BD9-4D9B-9894-3C019EBA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A7EC-6DD3-4231-8587-317708B4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B2CE-129F-432A-8B1F-A74B38FF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AECC-DBAA-48D6-94D4-0C8F0A7F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1F5FB-D84D-45C0-AF83-6BFD4C653B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