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52642"/>
        <c:axId val="42957441"/>
      </c:barChart>
      <c:catAx>
        <c:axId val="5352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57441"/>
        <c:crosses val="autoZero"/>
        <c:auto val="1"/>
        <c:lblAlgn val="ctr"/>
        <c:lblOffset val="100"/>
        <c:noMultiLvlLbl val="0"/>
      </c:catAx>
      <c:valAx>
        <c:axId val="42957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2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F965-CA8C-4048-A0FE-9242BDE7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6FC-9C6F-4ACE-9507-B700563C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8D5-8491-4278-97B5-C81DB091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E2E-A72D-4227-B9FD-F9CC6318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22AA-5AA7-484C-9A88-45B4D010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A2F-11D0-487F-807C-C14A8397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EB4-3171-4AEC-8183-03067A96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FD3-23AF-449E-8D15-A9C59D7A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092-F967-4473-82BB-EC4C1BBD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00C-4036-4B17-8E62-D226E91A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899-C5B9-493D-A8D3-B931EDB7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9CC-DC17-4364-B329-D68CE2FF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0FDF8-BB63-4147-831B-6C1DCFADE2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