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3727"/>
        <c:axId val="15079570"/>
      </c:barChart>
      <c:catAx>
        <c:axId val="14113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79570"/>
        <c:crosses val="autoZero"/>
        <c:auto val="1"/>
        <c:lblAlgn val="ctr"/>
        <c:lblOffset val="100"/>
        <c:noMultiLvlLbl val="0"/>
      </c:catAx>
      <c:valAx>
        <c:axId val="15079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3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858-C1C6-4319-8CE4-549E3CCD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90E-71EA-4869-9E46-398E849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AEA-6C3A-4F13-8D87-261E4873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5CC-ED08-4A25-814A-AC429108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977-6F08-4D9C-9F9B-3D85B1D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2A8-B642-45AF-984F-609687B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1B9-1305-4678-B039-709C1709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DE9-D6B5-496D-B0C0-3CC20572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D39-A673-40EF-AA71-3F7AA36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349-4AD8-4340-8B77-F5F6C87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3CD-7691-41D8-BBC9-BE13A57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2E6-37FC-45EF-AAE5-7C9B425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9A6A-F1EE-44AF-97E4-3152108352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