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084F-B3F1-4803-A7A0-7D295C0D6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0851-14FF-458F-A268-2B214E313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5499-C126-4C68-A7D7-AF5FC0EBE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1F28-609A-4AB7-AAC5-7C463CB31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0BD2DE-672C-40BF-8931-A25601ACA95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634C23-5544-43EC-A38D-59DBD8205D2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5B88C0-12C4-4C99-AEA8-625DDBBE686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11999E-A4D6-43A1-B84A-D8D8FE4EDFD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87D67A-2A2D-46A0-A6FD-C9454DC068A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0FD9AA-8980-4BB7-864E-DF2AF9EC0DA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D1545A-6A39-415A-A18B-AF042D85DA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DA4E-B240-4D69-9C6E-73A8F6121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883C41-6658-4FB8-8821-DF0206AAD25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78544F-2777-44FB-999A-F28E4DE199D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513811-B3E3-4191-A733-896E7C1E5E8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08F196-B694-48A4-BDBD-96CE8A58313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C3449B-1CE2-4731-9D30-3788FFDB65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BCC8-66B1-4EB8-B2C0-93C873F3D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516A-B200-417D-8559-B7B8C332A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887F-7D40-4A6D-8166-235ADC84A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A4E9-A013-43A1-8A43-763683F0E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EBF1-0288-40C4-8AAA-DADE14376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EF43-15A2-44E8-B873-A2BE6FDA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B334-864B-411F-A02C-C3D22123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CA549-E253-460D-A3B7-A36DFF4CA6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4B56F-76FC-4B95-BDC3-6E83B030FB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 8.4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lset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dex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search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nchronous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teps to 8.4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0:54Z</dcterms:modified>
  <cp:revision>406</cp:revision>
  <dc:subject/>
  <dc:title>8.4 Tcl Overview</dc:title>
</cp:coreProperties>
</file>