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4AD5D-B316-4E0F-8416-9CB0ADE08AD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FC944-A8C5-438B-B6D4-C4B683566DD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2A2E3-E089-4102-8DFC-B422A2B9869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8351F-87F2-4283-9A0A-45DBCA6D1C1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96961-3D20-4141-B2CA-DA88130A592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D4C47-5F17-455A-B3EB-6E7DE64D867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65250-AE9E-4467-89B4-718FE8111E3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0069C-74C5-4647-9783-C6127C8F593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94538-874C-401F-819A-5BD835C65C4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DF3CA-8B5D-45AD-A5E4-8BCA2BB5FB2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E5D57-581E-43A7-B203-DCC8F39776A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3C146-8165-4933-BDAB-5A78352DF27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70541-4A18-41EA-83D4-A7E181EEF86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BB839-CE9E-4E55-8E99-DB78723CFA7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C7F1-2B1C-488A-87C3-EDD5A7499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6493-4DC7-4B7A-A1B1-E92F8931F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3C88-D945-47C7-9B7A-7B503CBC3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F01C-23FE-4131-8FB8-150476094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5D51-F170-494C-8569-AB393C632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CBC9-3026-48CB-ACDC-0C1590DF8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4C45-45E4-4E55-B4A0-330958E14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C859-D8E2-4C4F-BA1F-B8F7A5098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0C56-BE15-4E85-9ADE-5708CB046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1CF5-027E-48D8-BC7D-9173A486F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3494-A473-4520-B4BD-7F5A37B50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0E35-B5DC-4360-A204-4BA2B4EAC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A9F3C-C777-4398-8CE3-B534053E9DC5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k@dacsystem.pl" TargetMode="External"/><Relationship Id="rId2" Type="http://schemas.openxmlformats.org/officeDocument/2006/relationships/hyperlink" Target="http://tkosiak.blogspot.com/" TargetMode="External"/><Relationship Id="rId3" Type="http://schemas.openxmlformats.org/officeDocument/2006/relationships/hyperlink" Target="http://www.dacsystem.pl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tcl.org/2008/Download/Saturday/EuroTcl2008-Steffen_GSoC.pdf" TargetMode="External"/><Relationship Id="rId2" Type="http://schemas.openxmlformats.org/officeDocument/2006/relationships/hyperlink" Target="http://www.eurotcl.org/2008/Download/Saturday/EuroTcl2008-Steffen_GSoC.pdf" TargetMode="External"/><Relationship Id="rId3" Type="http://schemas.openxmlformats.org/officeDocument/2006/relationships/hyperlink" Target="http://www.eurotcl.org/2008/Download/Saturday/EuroTcl2008-Steffen_GSoC.pdf" TargetMode="External"/><Relationship Id="rId4" Type="http://schemas.openxmlformats.org/officeDocument/2006/relationships/hyperlink" Target="http://www.eurotcl.org/2008/Download/Saturday/EuroTcl2008-Steffen_GSoC.pdf" TargetMode="External"/><Relationship Id="rId5" Type="http://schemas.openxmlformats.org/officeDocument/2006/relationships/hyperlink" Target="http://www.eurotcl.org/2008/Download/Saturday/EuroTcl2008-Wirl_GSoC.pdf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blicharski@gmail.com" TargetMode="External"/><Relationship Id="rId2" Type="http://schemas.openxmlformats.org/officeDocument/2006/relationships/hyperlink" Target="http://www.assembla.com/wiki/show/tkto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dah4ns@gmail.com" TargetMode="External"/><Relationship Id="rId2" Type="http://schemas.openxmlformats.org/officeDocument/2006/relationships/hyperlink" Target="http://trac.assembla.com/gsoc2008-tcl_dynamic_libraries/wiki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ania.pawelczyk@gmail.com" TargetMode="External"/><Relationship Id="rId2" Type="http://schemas.openxmlformats.org/officeDocument/2006/relationships/hyperlink" Target="http://www.assembla.com/wiki/show/TkTest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26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cl/Tk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oogle Summer of Code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000" y="3886200"/>
            <a:ext cx="7304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masz Kosiak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&lt;tkosiak@gmail.co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kosiak.blogsp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acsystem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cl 2008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ct 23, Manassas VA,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masz Kosiak’s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ground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(tkosia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king with Tcl from 1999 (first AOLserver, now mosty Tcl serv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ner, manager, software architect/developer at DAC System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- DAC System is 3 years old company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-10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eople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ing dedicated software (in Tcl and AJAX) for telemetry and doing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plo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Gdańsk Bay area in northern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TriCity=Trójmiast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– the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Tcl users:  zjednoczenie.com (AOLserver based websites ex. mtv.eu), Polska.pl/Poland.pl (national portal),  Intel Technology Poland (tes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in South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kow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Wojciech Kocja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www.kocjan.org/about-me.html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NT Industrial Software Systems (general SCADA/HMI with Tk and/or AJAX UI), www.onet.pl (AOLser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SoC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200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 hi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uates from Technical University of Gdańsk after the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ove themselvs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ship during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SoC provided funding and mentor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hi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work on projects which d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d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nefit DAC System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 work is my daily job  – I’m quite good at making things ha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GSoC 2008 Im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s a key but it doesn’t always work out of th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reasonable projects with committed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we expect from a student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 programming, some motivation and no mo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student expectations (except Google hype)? Doable project and mentor devotion first, money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ll we bother at all with Tcl 2009 GSo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MH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oC is important way to bring in new Tcl develope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mmercial Tcl usage at Tcl based companies is another 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Contact</a:t>
            </a:r>
            <a:br>
              <a:rPr sz="36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omasz Kosiak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e-mail: tk@dacsystem.pl</a:t>
            </a:r>
            <a:br>
              <a:rPr sz="28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http://tkosiak.blogspo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 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(ur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iki.tcl.tk/208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ode.google.com/p/google-summer-of-code-2008-tcl/downloads/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groups.google.com/group/comp.lang.tcl/browse_thread/thread/72b3e6626aa20095/50174260499805b3?hl=pl&amp;lnk=gst&amp;q=Tcl+GSoC+Projects#50174260499805b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eurotcl.org/2008/Download/Saturday/EuroTcl2008-Steffen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eurotcl.org/2008/Download/Saturday/EuroTcl2008-Wirl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 (tkosiak)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l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slots, finally 9 slots after we advertised as umbrella organization for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k,  AOLserver, OpenACS/.dotLRN, XOTcl, aMSN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forgot about Expect) and Tk being part of Perl &amp; Python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slots =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9 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00 USD for students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+ 9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500 USD for mentors (Tcl Associ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MHO we 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very capable students from Poland (3 from Gdańsk and 1 from Wars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Tcl/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k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nting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p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t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(TkPrint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rzysztof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rzysiek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licharski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licharski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if Fly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o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Tcl implementation / C source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spects widgets graphical properties and gathers it nn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s PDF from information in those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es many widgets including canvas but not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how widgets draws itself is duplicated in tktopdf tcl source code – derived from studies on C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it support Tile? (probably 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ght way is to 1) provide more retrospection about how widgets draws itselves  2) start with a TIP what is really nee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Hans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h4ns@gmai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reas Kup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rac.assembla.com/gsoc2008-tcl_dynamic_libraries/wi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loading shared libraries from starkits without putting them in temporary f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ored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ing RTLD library (part of FreeBSD dynamic linker) to Linux and trying to make it work with Linux dynamic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RTLD – its license is compatible with Tcl so it could be bund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TLD was extracted from FreeBSD sources and ported to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ad simple dynamic shared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cannot load libtcl85.so from memory (fix could be simple or quite complex – no diagno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required high degree expertise on shared libraries linker internals – not already available within Tcl community so student mosty worked on his own – when he got stuck we couldn’t really help him without doing work for him (and it wasn’t exerci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S X we have OS support, making it basically 100% an integration thing – complexity 99% in Tcl, 1% in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ther platform complexity was not in the integration, but in the load/link parts themselves, maybe 1% integration, 99% linker inter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p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create/bundle own linker (based on RTLD) but help to put memory-load feature into native linkers on supported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ome workarounds to use native linkers (put shared library in /dev/shm on BSD, FUSE on Linux, Windows ???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Ani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welczyk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ia.pawelczyk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or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Jeff Hob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vert syntax from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1 to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ation of why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ny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fa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ce from the system's settings – revisiting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test case independence – adding setup/clean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2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1 is formally accomp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 2..4 just scratched – se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www.assembla.com/flows/flow/a_KwcurkGr3ztnab7jnr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5 out 110 test files is lastly touched by ani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24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tktoolkit.cvs.sourceforge.net/viewvc/tktoolkit/tk/tests/?sortby=author#dir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 new to Tl/Tk cannot become tktest expert without extensive help from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be 50% of effort wa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po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ile tests touched – project was not called TtkTests (intended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Bindings to DTrace (TclDTra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Remigiusz (Jan Andrzej) Modrzejewski &lt;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rem@go2.p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Poland,Gdań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Steffen (Switzerland, Zuri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dev.lrem.net/tcldtrac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Tta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ynamic tracing framework from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successful project from Polish students (both mentor and student are very happy with 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 had all the required skills – what was indeed needed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C programming, b) good system administration skill which allowed him to create work environment OpenSolaris, c) kernel understanding (he writes for Linux Journal about Linux kern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tor was very helpful – helped to design API, tested on unavailable platform (Mac OS X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isturbed systematic communication – almost the same time zone (Poland – Switzerla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9:29:41Z</dcterms:created>
  <dc:creator>Tomasz Kosiak</dc:creator>
  <dc:description/>
  <dc:language>en-US</dc:language>
  <cp:lastModifiedBy>tkosiak</cp:lastModifiedBy>
  <dcterms:modified xsi:type="dcterms:W3CDTF">2008-10-23T06:36:07Z</dcterms:modified>
  <cp:revision>19</cp:revision>
  <dc:subject/>
  <dc:title>Tcl/Tk Mature but Evolving Dynamic Language</dc:title>
</cp:coreProperties>
</file>