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19B1-3211-4C14-96DA-FA29B5D56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3E90-95D6-4B93-8D00-AF5CE267D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10A7-4F83-485A-BC52-77A216E83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560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3768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560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3768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7595-AFB1-44DF-9989-677D79AEB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099F-E1CD-4BAC-B62F-514F8831E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2EC6-D4BF-460A-94D6-10B0FBBC4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FE94-264D-45D4-B0AA-3A3082E5D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8946-EF4F-41ED-93A0-5C5A4755F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52480" y="38160"/>
            <a:ext cx="6400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E8AA-3F3F-4951-BBA2-92B1C31A0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F038-2791-442D-93FA-21F9107E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EC5E-3562-48AD-88A6-FA5013CC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742E-C6EC-42B6-A212-A2808B57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, slide </a:t>
            </a:r>
            <a:fld id="{4935492C-6C7F-4A03-B8C8-8BE7591CC739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9E088-835E-463F-8F98-A3C05E3CAE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age" descr=""/>
          <p:cNvPicPr/>
          <p:nvPr/>
        </p:nvPicPr>
        <p:blipFill>
          <a:blip r:embed="rId2"/>
          <a:stretch/>
        </p:blipFill>
        <p:spPr>
          <a:xfrm>
            <a:off x="152280" y="195120"/>
            <a:ext cx="8763120" cy="65217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14400" y="6172200"/>
            <a:ext cx="2666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hyperlink" Target="http://tclpro.sf.net/" TargetMode="External"/><Relationship Id="rId7" Type="http://schemas.openxmlformats.org/officeDocument/2006/relationships/hyperlink" Target="http://tclpro.sf.net/" TargetMode="External"/><Relationship Id="rId8" Type="http://schemas.openxmlformats.org/officeDocument/2006/relationships/hyperlink" Target="http://tclpro.sf.net/" TargetMode="External"/><Relationship Id="rId9" Type="http://schemas.openxmlformats.org/officeDocument/2006/relationships/hyperlink" Target="http://tclpro.sf.net/" TargetMode="External"/><Relationship Id="rId10" Type="http://schemas.openxmlformats.org/officeDocument/2006/relationships/hyperlink" Target="http://tclpro.sf.net/" TargetMode="External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url.org/tcl/wiki" TargetMode="External"/><Relationship Id="rId2" Type="http://schemas.openxmlformats.org/officeDocument/2006/relationships/hyperlink" Target="http://www.purl.org/tcl/wiki" TargetMode="External"/><Relationship Id="rId3" Type="http://schemas.openxmlformats.org/officeDocument/2006/relationships/hyperlink" Target="http://www.purl.org/tcl/wiki" TargetMode="External"/><Relationship Id="rId4" Type="http://schemas.openxmlformats.org/officeDocument/2006/relationships/hyperlink" Target="http://www.purl.org/tcl/wiki" TargetMode="External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s.man.ac.uk/fellowsd-bin/TIP/" TargetMode="External"/><Relationship Id="rId2" Type="http://schemas.openxmlformats.org/officeDocument/2006/relationships/hyperlink" Target="http://www.cs.man.ac.uk/fellowsd-bin/TIP/" TargetMode="External"/><Relationship Id="rId3" Type="http://schemas.openxmlformats.org/officeDocument/2006/relationships/hyperlink" Target="http://www.cs.man.ac.uk/fellowsd-bin/TIP/" TargetMode="External"/><Relationship Id="rId4" Type="http://schemas.openxmlformats.org/officeDocument/2006/relationships/hyperlink" Target="http://www.cs.man.ac.uk/fellowsd-bin/TIP/" TargetMode="External"/><Relationship Id="rId5" Type="http://schemas.openxmlformats.org/officeDocument/2006/relationships/hyperlink" Target="http://www.cs.man.ac.uk/fellowsd-bin/TIP/" TargetMode="External"/><Relationship Id="rId6" Type="http://schemas.openxmlformats.org/officeDocument/2006/relationships/hyperlink" Target="http://www.cs.man.ac.uk/fellowsd-bin/TIP/" TargetMode="External"/><Relationship Id="rId7" Type="http://schemas.openxmlformats.org/officeDocument/2006/relationships/hyperlink" Target="http://www.cs.man.ac.uk/fellowsd-bin/TIP/" TargetMode="External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76720" y="62485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7432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71600" y="3814920"/>
          <a:ext cx="6172200" cy="121428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1371600" y="1981080"/>
          <a:ext cx="6172200" cy="121932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Pro open sourced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tclpro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8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9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0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565600" y="439560"/>
            <a:ext cx="433440" cy="417600"/>
            <a:chOff x="5565600" y="439560"/>
            <a:chExt cx="433440" cy="417600"/>
          </a:xfrm>
        </p:grpSpPr>
        <p:sp>
          <p:nvSpPr>
            <p:cNvPr id="163" name=""/>
            <p:cNvSpPr/>
            <p:nvPr/>
          </p:nvSpPr>
          <p:spPr>
            <a:xfrm>
              <a:off x="579096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7000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566964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181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61744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1744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56560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c0128"/>
                </a:solidFill>
                <a:latin typeface="Times New Roman"/>
              </a:rPr>
              <a:t>Not</a:t>
            </a: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 the Tcl Developer Xchan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ctiveState and Tc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modo 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Downloads/Komodo/M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/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: training and consul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1"/>
              </a:rPr>
              <a:t>http://www.purl.org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3"/>
              </a:rPr>
              <a:t>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4"/>
              </a:rPr>
              <a:t>wi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 Developer Xchange has mov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purl.org/net/tcl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wnload rate steady (~30,000 / month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y patch releases since last yea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ble release now at 8.3.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for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rimental release, now at 8.4a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ill in feature-add mod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‘spinbox’ widge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ral minor core feature enhance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everal TIPs in the pipeli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set’ 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EA 2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n discuss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Roadmap Pol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rove Tcl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chive file support (.jar/.zi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source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binary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Install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nd-alone executable support in core (*wra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46256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maller, more modular cor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rag &amp; Dro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ndows Tk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nting suppor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k abstraction layer (TkGS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gawidgets (roll your own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371600"/>
            <a:ext cx="861048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has happened since Tcl’Europ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44080" y="259092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03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 flipV="1">
            <a:off x="388620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209680" y="3257640"/>
            <a:ext cx="0" cy="885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24600" y="2157480"/>
            <a:ext cx="0" cy="804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19640" y="5025960"/>
            <a:ext cx="299052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52880" y="1952640"/>
            <a:ext cx="0" cy="100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81440" y="134316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12408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1904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2971800"/>
            <a:ext cx="4267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2971800"/>
            <a:ext cx="42292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2590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8240" y="3772080"/>
            <a:ext cx="928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644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0980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2880" y="3648240"/>
            <a:ext cx="9860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19640" y="3648240"/>
            <a:ext cx="1009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3972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4019400"/>
            <a:ext cx="1924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86728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05720" y="15098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05520" y="3524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 ASPN/Tcl Launch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8580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43800" y="3895560"/>
            <a:ext cx="74304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3024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992400" y="4608360"/>
            <a:ext cx="433440" cy="417600"/>
            <a:chOff x="3992400" y="4608360"/>
            <a:chExt cx="433440" cy="417600"/>
          </a:xfrm>
        </p:grpSpPr>
        <p:sp>
          <p:nvSpPr>
            <p:cNvPr id="136" name=""/>
            <p:cNvSpPr/>
            <p:nvPr/>
          </p:nvSpPr>
          <p:spPr>
            <a:xfrm>
              <a:off x="4217760" y="47300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9680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409644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4496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04424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44240" y="47998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92400" y="47282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886440" y="2895480"/>
            <a:ext cx="76320" cy="15264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atus as of Tcl’Europe 200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n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4a1 recently releas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3.1 was the stable version (now part of Red Hat and SuSE standard distribution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riptics (now Ajuba) was focusing on B2B applic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to collectively manage development of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w… Tcl Core Tea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752480" y="2392200"/>
          <a:ext cx="4648320" cy="2556000"/>
        </p:xfrm>
        <a:graphic>
          <a:graphicData uri="http://schemas.openxmlformats.org/drawingml/2006/table">
            <a:tbl>
              <a:tblPr/>
              <a:tblGrid>
                <a:gridCol w="2324160"/>
                <a:gridCol w="2324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tarted TIP process for Tcl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cs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man.ac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uk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/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fellowsd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-bin/TIP/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Currently 34 TIPs (9 active project TIP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/Tk maintainers are a separate grou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1-06-01T10:19:00Z</dcterms:modified>
  <cp:revision>388</cp:revision>
  <dc:subject/>
  <dc:title>The (Active) State of Tcl, 2001</dc:title>
</cp:coreProperties>
</file>