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77E5-7029-4FCE-92A2-B656C4B0A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50880" y="364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C642-841B-4EA1-9005-376EDE211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3356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8B43-71FE-4509-9547-B3513E410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7888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0652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5088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7888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0652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B557-87A3-42B8-854D-C23096A81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50880" y="18900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91DF-BA31-4935-8FAD-DB5DED7C6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3356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50880" y="364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3356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7888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652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5088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7888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652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9C5C-885B-48E3-97C0-515B1F96D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24BC-D01A-44CB-995E-C5F2FB915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60ED-2F3F-41D7-A4E9-ED87B6BCE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50880" y="18900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09F4-EBEB-4F86-BF42-2DE6ECC3D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BBC9-FCF0-471C-99B0-8CEA2F4D0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3356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09ED-1837-4FB7-B58F-7F18AC428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11B5-5F99-4E67-89F1-E3E659B36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2357" r="0" b="0"/>
          <a:stretch/>
        </p:blipFill>
        <p:spPr>
          <a:xfrm>
            <a:off x="0" y="4564080"/>
            <a:ext cx="1658880" cy="2293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68000" y="6416280"/>
            <a:ext cx="172548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Tahoma"/>
              </a:rPr>
              <a:t>June 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446200" y="6416280"/>
            <a:ext cx="417528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0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333399"/>
                </a:solidFill>
                <a:latin typeface="Tahoma"/>
              </a:rPr>
              <a:t>Tcl/Tk’s Contribution to Satellite Operations 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143000"/>
            <a:ext cx="4572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1143000"/>
            <a:ext cx="685800" cy="763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732360" y="6453000"/>
            <a:ext cx="172548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7F397-3EBA-4F08-87BB-6E1336BDC113}" type="slidenum">
              <a:rPr b="0" lang="en-US" sz="1200" spc="-1" strike="noStrike">
                <a:solidFill>
                  <a:srgbClr val="33339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553080" y="641664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" descr=""/>
          <p:cNvPicPr/>
          <p:nvPr/>
        </p:nvPicPr>
        <p:blipFill>
          <a:blip r:embed="rId3"/>
          <a:srcRect l="0" t="0" r="14720" b="0"/>
          <a:stretch/>
        </p:blipFill>
        <p:spPr>
          <a:xfrm>
            <a:off x="7229520" y="5877000"/>
            <a:ext cx="1500120" cy="444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rcRect l="0" t="6946" r="0" b="0"/>
          <a:stretch/>
        </p:blipFill>
        <p:spPr>
          <a:xfrm>
            <a:off x="0" y="476280"/>
            <a:ext cx="4846680" cy="63817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0" t="0" r="14720" b="0"/>
          <a:stretch/>
        </p:blipFill>
        <p:spPr>
          <a:xfrm>
            <a:off x="6732720" y="5734080"/>
            <a:ext cx="2146320" cy="6364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40428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Tahoma"/>
              </a:rPr>
              <a:t>Tcl/Tk’s Contribution to Satellite Operations 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411280" y="1699920"/>
            <a:ext cx="640080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7</a:t>
            </a:r>
            <a:r>
              <a:rPr b="0" lang="en-GB" sz="3200" spc="-1" strike="noStrike" baseline="30000">
                <a:solidFill>
                  <a:srgbClr val="333399"/>
                </a:solidFill>
                <a:latin typeface="Tahoma"/>
              </a:rPr>
              <a:t>th</a:t>
            </a: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 European Tcl/Tk User Meet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6 June 2008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Martyn SMITH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Software Engine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Conclusion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Tcl/Tk is used increasingly throughout the CN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Tools used through all phases of satellite production and oper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Agile programming helps to converge towards a functional too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SPACEBEL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55560" y="1203480"/>
            <a:ext cx="7956720" cy="42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ounded in 1988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Located in Brussels, Liege, Toulouse and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Vietna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Main activities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: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Space industry :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Satellite Flight software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Simulation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Ground Infrastructures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Environment :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Environmental monitoring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Water resource management systems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Disaster management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CNES: French Space Agency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Large quantities of data :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Satellite Description Database 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Telecommand, Telemetr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Simulation output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Multi-Satellite Control Centr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Archive/Retrieval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Extraction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Visualisation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Control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Why Choose TCL for the CNES ?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CL already used for Simulato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Experts often require small tools quickl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Windows platform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ommand line inconvenient -&gt; GUI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ll this combined lead us to choose TC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The Snowball Effect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Started out with small scrip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Demonstrated the possibilities of TC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More and more interest by exper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Requests for complete tool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Production tools/environment create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Two complete operational CNES Produc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3" marL="1584000" indent="-226080"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ahoma"/>
              </a:rPr>
              <a:t>PrestoPlot</a:t>
            </a:r>
            <a:r>
              <a:rPr b="0" lang="en-US" sz="2000" spc="-1" strike="noStrike" baseline="30000">
                <a:solidFill>
                  <a:srgbClr val="333399"/>
                </a:solidFill>
                <a:latin typeface="Tahoma"/>
                <a:ea typeface="Tahoma"/>
              </a:rPr>
              <a:t>®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3" marL="1584000" indent="-226080"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ahoma"/>
              </a:rPr>
              <a:t>PrestoDecom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Tahoma"/>
              </a:rPr>
              <a:t>PrestoDecom: Packet Data Extractor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atellites generate binary packet data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Need to convert into Human readable for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llow Experts to extract sets of parameters on their ow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Decentralised access to paramet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2268360" y="4653000"/>
            <a:ext cx="4681440" cy="1211760"/>
            <a:chOff x="2268360" y="4653000"/>
            <a:chExt cx="4681440" cy="1211760"/>
          </a:xfrm>
        </p:grpSpPr>
        <p:sp>
          <p:nvSpPr>
            <p:cNvPr id="99" name=""/>
            <p:cNvSpPr/>
            <p:nvPr/>
          </p:nvSpPr>
          <p:spPr>
            <a:xfrm>
              <a:off x="2268360" y="4653000"/>
              <a:ext cx="4681440" cy="11523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536560" y="4745160"/>
              <a:ext cx="183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341080" y="4797360"/>
              <a:ext cx="46087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33399"/>
                  </a:solidFill>
                  <a:latin typeface="Tahoma"/>
                </a:rPr>
                <a:t>Starpac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333399"/>
                  </a:solidFill>
                  <a:latin typeface="Tahoma"/>
                </a:rPr>
                <a:t>&gt;16000 lo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333399"/>
                  </a:solidFill>
                  <a:latin typeface="Tahoma"/>
                </a:rPr>
                <a:t>BWidgets,  Tile,  Treectrl,  Hugelist,  PrestoHel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619280" y="536400"/>
            <a:ext cx="58561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Tahoma"/>
              </a:rPr>
              <a:t>PrestoPlot</a:t>
            </a:r>
            <a:r>
              <a:rPr b="0" lang="en-US" sz="3200" spc="-1" strike="noStrike" baseline="30000">
                <a:solidFill>
                  <a:srgbClr val="0066ff"/>
                </a:solidFill>
                <a:latin typeface="Tahoma"/>
              </a:rPr>
              <a:t>®</a:t>
            </a:r>
            <a:r>
              <a:rPr b="0" lang="en-GB" sz="3200" spc="-1" strike="noStrike">
                <a:solidFill>
                  <a:srgbClr val="0066ff"/>
                </a:solidFill>
                <a:latin typeface="Tahoma"/>
              </a:rPr>
              <a:t>: 2-D Plotter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Why a new plotter :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Multi-Axes date plots with synchronisation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Labelled data display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Direct graph manipulation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Over 200 users on multiple sit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2195640" y="4653000"/>
            <a:ext cx="4824000" cy="1211760"/>
            <a:chOff x="2195640" y="4653000"/>
            <a:chExt cx="4824000" cy="1211760"/>
          </a:xfrm>
        </p:grpSpPr>
        <p:sp>
          <p:nvSpPr>
            <p:cNvPr id="106" name=""/>
            <p:cNvSpPr/>
            <p:nvPr/>
          </p:nvSpPr>
          <p:spPr>
            <a:xfrm>
              <a:off x="2195640" y="4653000"/>
              <a:ext cx="4824000" cy="11523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475360" y="4745160"/>
              <a:ext cx="183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270520" y="4797360"/>
              <a:ext cx="47491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33399"/>
                  </a:solidFill>
                  <a:latin typeface="Tahoma"/>
                </a:rPr>
                <a:t>Freewra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333399"/>
                  </a:solidFill>
                  <a:latin typeface="Tahoma"/>
                </a:rPr>
                <a:t>&gt;16000 lo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333399"/>
                  </a:solidFill>
                  <a:latin typeface="Tahoma"/>
                </a:rPr>
                <a:t>BLT, BWidgets,  mkWidgets, Tablelist, PrestoHel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619280" y="404640"/>
            <a:ext cx="6913440" cy="50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7T13:15:33Z</dcterms:created>
  <dc:creator>Martyn Smith</dc:creator>
  <dc:description/>
  <cp:keywords>TCL Satellite Telemetry Simulation</cp:keywords>
  <dc:language>en-US</dc:language>
  <cp:lastModifiedBy>Martyn Smith</cp:lastModifiedBy>
  <dcterms:modified xsi:type="dcterms:W3CDTF">2008-06-04T20:57:42Z</dcterms:modified>
  <cp:revision>42</cp:revision>
  <dc:subject/>
  <dc:title>Tcl/Tk's Contribution to Satellite Operations</dc:title>
</cp:coreProperties>
</file>