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19EB-80DC-4A9F-9CEC-81CF9B110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2E5A-9C91-4DCF-A4E9-D5DE79EB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AC73-FA29-4750-985E-B8BA33B5E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67E2-7755-432C-B71A-8A9493EB1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E6BB-5A9D-49D9-873A-29E33234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AB12-3357-4965-8217-D0E10892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D9E1-8C77-4F94-A909-C075379C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E531-9333-49F7-B0EE-4109C9BE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FC52-57D0-4DC3-B568-6AB51D83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5FD2-A560-4CAD-A8FD-00832DEB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ADF8-C43A-4212-BC22-B9E924DC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843A-00B8-4E6A-88EE-FE32648D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D973-9DE8-41D3-BFCF-E5FE3F9D65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gle: Tcl Implementation in C#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Microsoft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embed in CLR 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able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CLR cla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Tcl/T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native libr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active debugg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script cancel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read-only variables, command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preter-wide variable trac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clos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Unicode (UCS-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Tk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rgument expansion synta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namespace suppo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binary, fblocked, fcopy, fileevent, format, glob, history, memory, scan, or trac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registry or DD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erver socke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lave interpreters, no hidden commands, no aliases, and no Safe Tc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open command, command pipelines and serial port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exec command, Unix-style input/output redirection and command pipeline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8-10-22T06:56:22Z</dcterms:modified>
  <cp:revision>140</cp:revision>
  <dc:subject>Eagle</dc:subject>
  <dc:title>Eagle: Tcl Implementation in C#</dc:title>
</cp:coreProperties>
</file>