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move the slid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o in the audience currently uses cloud computing resources? 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o is thinking about it? 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auge level of familiarity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aas - infrastructure as a service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ublic vs private - public: massive multi-tenancy, private: company resources, shared by departments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marL="219240" indent="-2192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493560" indent="-2192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767880" indent="-2192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1042200" indent="-2192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1316520" indent="-2192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1316520" indent="-219240">
              <a:spcBef>
                <a:spcPts val="115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1316520" indent="-219240">
              <a:spcBef>
                <a:spcPts val="115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external.address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github.com/cloudsidekick/tclwinrm" TargetMode="Externa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oudsidekick.com/" TargetMode="External"/><Relationship Id="rId3" Type="http://schemas.openxmlformats.org/officeDocument/2006/relationships/hyperlink" Target="http://community.cloudsidekick.com/" TargetMode="External"/><Relationship Id="rId4" Type="http://schemas.openxmlformats.org/officeDocument/2006/relationships/hyperlink" Target="https://github.com/cloudsidekick/cato" TargetMode="External"/><Relationship Id="rId5" Type="http://schemas.openxmlformats.org/officeDocument/2006/relationships/hyperlink" Target="http://projects.cloudsidekick.com/projects/cato" TargetMode="External"/><Relationship Id="rId6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9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c2.amazonaws.com/doc/2011-07-15/" TargetMode="Externa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schools.com/xpath/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5320" y="170172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14141"/>
                </a:solidFill>
                <a:latin typeface="Gill Sans"/>
                <a:ea typeface="Gill Sans"/>
              </a:rPr>
              <a:t>Tcl and Cloud Computing Automation</a:t>
            </a:r>
            <a:endParaRPr b="0" lang="en-US" sz="6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5320" y="5207040"/>
            <a:ext cx="122936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14141"/>
                </a:solidFill>
                <a:latin typeface="Gill Sans"/>
                <a:ea typeface="Gill Sans"/>
              </a:rPr>
              <a:t>Tclcloud, Tclwinrm &amp; Cato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"/>
          <p:cNvSpPr/>
          <p:nvPr/>
        </p:nvSpPr>
        <p:spPr>
          <a:xfrm>
            <a:off x="2946240" y="6477120"/>
            <a:ext cx="709956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trick Dunnigan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hief Architect, Cloud Sidekick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loudsidekick.com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@CloudSidekick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6743880" y="317520"/>
            <a:ext cx="577836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0807560" y="4660920"/>
            <a:ext cx="1549440" cy="1270080"/>
          </a:xfrm>
          <a:prstGeom prst="roundRect">
            <a:avLst>
              <a:gd name="adj" fmla="val 15000"/>
            </a:avLst>
          </a:prstGeom>
          <a:solidFill>
            <a:srgbClr val="6c74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8" name=""/>
          <p:cNvSpPr/>
          <p:nvPr/>
        </p:nvSpPr>
        <p:spPr>
          <a:xfrm>
            <a:off x="10553760" y="3695760"/>
            <a:ext cx="2031840" cy="2362320"/>
          </a:xfrm>
          <a:custGeom>
            <a:avLst/>
            <a:gdLst>
              <a:gd name="textAreaLeft" fmla="*/ 55800 w 2031840"/>
              <a:gd name="textAreaRight" fmla="*/ 1976040 w 203184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25113">
                <a:moveTo>
                  <a:pt x="2025" y="0"/>
                </a:moveTo>
                <a:arcTo wR="2025" hR="2025" stAng="16200000" swAng="-5400000"/>
                <a:lnTo>
                  <a:pt x="0" y="23088"/>
                </a:lnTo>
                <a:arcTo wR="2025" hR="2025" stAng="10800000" swAng="-5400000"/>
                <a:lnTo>
                  <a:pt x="19575" y="25113"/>
                </a:lnTo>
                <a:arcTo wR="2025" hR="2025" stAng="5400000" swAng="-5400000"/>
                <a:lnTo>
                  <a:pt x="21600" y="2025"/>
                </a:lnTo>
                <a:arcTo wR="2025" hR="2025" stAng="0" swAng="-5400000"/>
                <a:close/>
              </a:path>
            </a:pathLst>
          </a:custGeom>
          <a:solidFill>
            <a:srgbClr val="6c747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9" name=""/>
          <p:cNvSpPr/>
          <p:nvPr/>
        </p:nvSpPr>
        <p:spPr>
          <a:xfrm>
            <a:off x="4406760" y="774720"/>
            <a:ext cx="3975120" cy="5829120"/>
          </a:xfrm>
          <a:prstGeom prst="pie">
            <a:avLst/>
          </a:prstGeom>
          <a:solidFill>
            <a:srgbClr val="b3b3b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55320" y="798804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</a:rPr>
              <a:t>demo example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266760" y="1054080"/>
            <a:ext cx="3568680" cy="2959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-1440" y="4070520"/>
            <a:ext cx="437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amples/sample_tclwinrm.tcl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3" name=""/>
          <p:cNvSpPr/>
          <p:nvPr/>
        </p:nvSpPr>
        <p:spPr>
          <a:xfrm>
            <a:off x="4759200" y="2002320"/>
            <a:ext cx="14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RunInstances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4" name=""/>
          <p:cNvSpPr/>
          <p:nvPr/>
        </p:nvSpPr>
        <p:spPr>
          <a:xfrm>
            <a:off x="4709520" y="10501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DescribeImages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5" name=""/>
          <p:cNvSpPr/>
          <p:nvPr/>
        </p:nvSpPr>
        <p:spPr>
          <a:xfrm>
            <a:off x="4732920" y="4371120"/>
            <a:ext cx="220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get external address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11684160" y="3009960"/>
            <a:ext cx="685800" cy="87624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4"/>
          <a:stretch/>
        </p:blipFill>
        <p:spPr>
          <a:xfrm>
            <a:off x="9398160" y="1333440"/>
            <a:ext cx="2158920" cy="8762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 flipH="1" flipV="1">
            <a:off x="6730560" y="1280880"/>
            <a:ext cx="2552760" cy="48420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9" name=""/>
          <p:cNvSpPr/>
          <p:nvPr/>
        </p:nvSpPr>
        <p:spPr>
          <a:xfrm>
            <a:off x="4762440" y="1513440"/>
            <a:ext cx="130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get imageId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0" name=""/>
          <p:cNvSpPr/>
          <p:nvPr/>
        </p:nvSpPr>
        <p:spPr>
          <a:xfrm>
            <a:off x="4838760" y="2425680"/>
            <a:ext cx="1892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get instanceId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1" name=""/>
          <p:cNvSpPr/>
          <p:nvPr/>
        </p:nvSpPr>
        <p:spPr>
          <a:xfrm>
            <a:off x="4727160" y="2961360"/>
            <a:ext cx="21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heck status in loop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"/>
          <p:cNvSpPr/>
          <p:nvPr/>
        </p:nvSpPr>
        <p:spPr>
          <a:xfrm>
            <a:off x="5108400" y="3837600"/>
            <a:ext cx="118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is running?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3" name=""/>
          <p:cNvSpPr/>
          <p:nvPr/>
        </p:nvSpPr>
        <p:spPr>
          <a:xfrm>
            <a:off x="5037480" y="3418560"/>
            <a:ext cx="197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DescribeInstances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4" name=""/>
          <p:cNvSpPr/>
          <p:nvPr/>
        </p:nvSpPr>
        <p:spPr>
          <a:xfrm>
            <a:off x="4923720" y="59713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nd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029360" y="2286000"/>
            <a:ext cx="3105360" cy="12715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245360" y="5295960"/>
            <a:ext cx="3524400" cy="1825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418440" y="1892160"/>
            <a:ext cx="2992320" cy="2080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8" name=""/>
          <p:cNvSpPr/>
          <p:nvPr/>
        </p:nvSpPr>
        <p:spPr>
          <a:xfrm>
            <a:off x="4735080" y="4802760"/>
            <a:ext cx="231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ait for boot to finish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9" name=""/>
          <p:cNvSpPr/>
          <p:nvPr/>
        </p:nvSpPr>
        <p:spPr>
          <a:xfrm>
            <a:off x="4650480" y="5330520"/>
            <a:ext cx="247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5"/>
              </a:rPr>
              <a:t>http://external.address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6"/>
          <a:stretch/>
        </p:blipFill>
        <p:spPr>
          <a:xfrm>
            <a:off x="11074320" y="4927680"/>
            <a:ext cx="9781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55320" y="355320"/>
            <a:ext cx="12293640" cy="754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icrosoft WinRM - Windows Remote Management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OAP based web servic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dministration and automation capabilities without RPC / DCOM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erver 2008+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winRS - Windows Remote Shell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win command line tools standard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till, linux clients limited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42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inrm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8140680" y="4064040"/>
            <a:ext cx="326376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355320" y="355320"/>
            <a:ext cx="1233180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04920" indent="-304920">
              <a:lnSpc>
                <a:spcPct val="120000"/>
              </a:lnSpc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Tclwinrm - client-side Tcl extension for interaction with the WinRM servic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emotely manage Windows servers from linux (yay!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Windows command line commands, PowerScript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icrosoft Server Core 2008 R2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future releases: ssl, digest / kerberos auth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enables automation in cloud &amp; data center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1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hlinkClick r:id="rId2"/>
              </a:rPr>
              <a:t>https://github.com/cloudsidekick/tclwinrm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45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clwinrm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355680" y="355320"/>
            <a:ext cx="12369600" cy="784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install and configure softwar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emote administration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onitoring: server and application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un central PowerScript library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did I mention manage Windows from linux?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47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clwinrm uses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27040" y="127080"/>
            <a:ext cx="8229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ckage require tclwinrmpackage require base64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uts “local machine is $::tcl_platform(os)”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t address ec2-107-20-119-132.compute-1.amazonaws.comset port 5985set user administratorset pass p@ssw0rdset conn [tclwinrm::connection new http $address $port $user $pass]set script {$strComputer = $Host        $RAM = WmiObject Win32_ComputerSystem        $MB = 1048576        "Win host Installed Memory: " + [int]($RAM.TotalPhysicalMemory /$MB) + " MB"}set command "powershell -encodedcommand [::base64::encode -wrapchar "" [encoding convertto unicode $script]]"set result [$conn rshell $command 120 0]puts \n$resultset command {dir c:\ }set result [$conn rshell $command 120 0]puts $resultexi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"/>
          <p:cNvSpPr/>
          <p:nvPr/>
        </p:nvSpPr>
        <p:spPr>
          <a:xfrm>
            <a:off x="533520" y="5416560"/>
            <a:ext cx="8229600" cy="39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ocal machine is </a:t>
            </a:r>
            <a:r>
              <a:rPr b="0" lang="en-US" sz="13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inux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in host </a:t>
            </a:r>
            <a:r>
              <a:rPr b="0" lang="en-US" sz="13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Installed Memory: 615 MB Volume in drive C has no label. Volume Serial Number is 8E0B-09AF Directory of c:\07/14/2009  03:34 AM    &lt;DIR&gt;          PerfLogs11/13/2010  12:13 PM    &lt;DIR&gt;          Program Files11/13/2010  11:49 AM    &lt;DIR&gt;          Program Files (x86)11/13/2010  04:16 AM                 9 query06/27/2011  03:35 PM    &lt;DIR&gt;          Users06/27/2011  03:04 PM    &lt;DIR&gt;          Windows               1 File(s)              9 bytes               5 Dir(s)  11,147,808,768 bytes free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"/>
          <p:cNvSpPr/>
          <p:nvPr/>
        </p:nvSpPr>
        <p:spPr>
          <a:xfrm>
            <a:off x="8889840" y="114480"/>
            <a:ext cx="3187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base64 required for powershell script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rint local o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ort 5985 standard on 2008 R2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user with winrm connect right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define connection objec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 simple powershell scrip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base64 encode scrip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call remote shell on win serv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rint resul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 simple dos command, no encoding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call remote shell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rint resul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8889840" y="5397480"/>
            <a:ext cx="31878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local o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result from powershell scrip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result from dos command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355680" y="355320"/>
            <a:ext cx="12369600" cy="784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04920" indent="-304920">
              <a:lnSpc>
                <a:spcPct val="120000"/>
              </a:lnSpc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open source (Apache 2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rchitectur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lvl="1" marL="68580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browser based UI (.net on linux / mono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lvl="1" marL="68580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database (MySql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lvl="1" marL="68580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utomation engine (Tcl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utomation toolkit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central script repository (Tasks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build Tasks drag and drop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un now or scheduled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upports cloud apis (Tclcloud), ssh (Expect), databases (OraTcl, mysqltcl, tcltds), windows (Tclwinrm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3338640" y="8344080"/>
            <a:ext cx="6400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loud Sidekick - Cato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7277040" y="2120760"/>
            <a:ext cx="49658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355680" y="355320"/>
            <a:ext cx="12369600" cy="784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86560" indent="-286560">
              <a:lnSpc>
                <a:spcPct val="120000"/>
              </a:lnSpc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tarting / stopping virtual servers, bootstrapping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deploying / upgrading application softwar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oving data on databases / filesystem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onitoring application performanc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elease builds / testing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refreshing data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configuring networking, “virtual private clouds”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enabling hybrid clouds (public to private / data center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database administration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caling application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backup filesystems / database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6560" indent="-286560">
              <a:lnSpc>
                <a:spcPct val="120000"/>
              </a:lnSpc>
              <a:spcBef>
                <a:spcPts val="2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enable user self servic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56" name=""/>
          <p:cNvSpPr/>
          <p:nvPr/>
        </p:nvSpPr>
        <p:spPr>
          <a:xfrm>
            <a:off x="3338640" y="8344080"/>
            <a:ext cx="6400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to uses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7277040" y="2120760"/>
            <a:ext cx="49658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962520" y="1359000"/>
            <a:ext cx="5321160" cy="4101840"/>
          </a:xfrm>
          <a:prstGeom prst="roundRect">
            <a:avLst>
              <a:gd name="adj" fmla="val 4644"/>
            </a:avLst>
          </a:prstGeom>
          <a:solidFill>
            <a:srgbClr val="6c747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4203720" y="1663560"/>
            <a:ext cx="1473120" cy="1486080"/>
          </a:xfrm>
          <a:custGeom>
            <a:avLst/>
            <a:gdLst>
              <a:gd name="textAreaLeft" fmla="*/ 55800 w 1473120"/>
              <a:gd name="textAreaRight" fmla="*/ 1417320 w 1473120"/>
              <a:gd name="textAreaTop" fmla="*/ 55800 h 1486080"/>
              <a:gd name="textAreaBottom" fmla="*/ 1430280 h 1486080"/>
            </a:gdLst>
            <a:ahLst/>
            <a:rect l="textAreaLeft" t="textAreaTop" r="textAreaRight" b="textAreaBottom"/>
            <a:pathLst>
              <a:path w="21600" h="21790">
                <a:moveTo>
                  <a:pt x="2793" y="0"/>
                </a:moveTo>
                <a:arcTo wR="2793" hR="2793" stAng="16200000" swAng="-5400000"/>
                <a:lnTo>
                  <a:pt x="0" y="18997"/>
                </a:lnTo>
                <a:arcTo wR="2793" hR="2793" stAng="10800000" swAng="-5400000"/>
                <a:lnTo>
                  <a:pt x="18807" y="21790"/>
                </a:lnTo>
                <a:arcTo wR="2793" hR="2793" stAng="5400000" swAng="-5400000"/>
                <a:lnTo>
                  <a:pt x="21600" y="2793"/>
                </a:lnTo>
                <a:arcTo wR="2793" hR="2793" stAng="0" swAng="-5400000"/>
                <a:close/>
              </a:path>
            </a:pathLst>
          </a:cu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asp.net  &amp; jquery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on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Apache / mod_mon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0" name=""/>
          <p:cNvSpPr/>
          <p:nvPr/>
        </p:nvSpPr>
        <p:spPr>
          <a:xfrm>
            <a:off x="5448240" y="3568680"/>
            <a:ext cx="863640" cy="148608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486080"/>
              <a:gd name="textAreaBottom" fmla="*/ 1430280 h 1486080"/>
            </a:gdLst>
            <a:ahLst/>
            <a:rect l="textAreaLeft" t="textAreaTop" r="textAreaRight" b="textAreaBottom"/>
            <a:pathLst>
              <a:path w="21600" h="37161">
                <a:moveTo>
                  <a:pt x="4764" y="0"/>
                </a:moveTo>
                <a:arcTo wR="4764" hR="4764" stAng="16200000" swAng="-5400000"/>
                <a:lnTo>
                  <a:pt x="0" y="32397"/>
                </a:lnTo>
                <a:arcTo wR="4764" hR="4764" stAng="10800000" swAng="-5400000"/>
                <a:lnTo>
                  <a:pt x="16836" y="37161"/>
                </a:lnTo>
                <a:arcTo wR="4764" hR="4764" stAng="5400000" swAng="-5400000"/>
                <a:lnTo>
                  <a:pt x="21600" y="4764"/>
                </a:lnTo>
                <a:arcTo wR="4764" hR="4764" stAng="0" swAng="-5400000"/>
                <a:close/>
              </a:path>
            </a:pathLst>
          </a:cu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"/>
          <p:cNvSpPr/>
          <p:nvPr/>
        </p:nvSpPr>
        <p:spPr>
          <a:xfrm>
            <a:off x="7112160" y="3530520"/>
            <a:ext cx="1650960" cy="507960"/>
          </a:xfrm>
          <a:prstGeom prst="roundRect">
            <a:avLst>
              <a:gd name="adj" fmla="val 37500"/>
            </a:avLst>
          </a:pr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task engin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"/>
          <p:cNvSpPr/>
          <p:nvPr/>
        </p:nvSpPr>
        <p:spPr>
          <a:xfrm>
            <a:off x="6680160" y="1663560"/>
            <a:ext cx="1473120" cy="1486080"/>
          </a:xfrm>
          <a:custGeom>
            <a:avLst/>
            <a:gdLst>
              <a:gd name="textAreaLeft" fmla="*/ 55800 w 1473120"/>
              <a:gd name="textAreaRight" fmla="*/ 1417320 w 1473120"/>
              <a:gd name="textAreaTop" fmla="*/ 55800 h 1486080"/>
              <a:gd name="textAreaBottom" fmla="*/ 1430280 h 1486080"/>
            </a:gdLst>
            <a:ahLst/>
            <a:rect l="textAreaLeft" t="textAreaTop" r="textAreaRight" b="textAreaBottom"/>
            <a:pathLst>
              <a:path w="21600" h="21790">
                <a:moveTo>
                  <a:pt x="2793" y="0"/>
                </a:moveTo>
                <a:arcTo wR="2793" hR="2793" stAng="16200000" swAng="-5400000"/>
                <a:lnTo>
                  <a:pt x="0" y="18997"/>
                </a:lnTo>
                <a:arcTo wR="2793" hR="2793" stAng="10800000" swAng="-5400000"/>
                <a:lnTo>
                  <a:pt x="18807" y="21790"/>
                </a:lnTo>
                <a:arcTo wR="2793" hR="2793" stAng="5400000" swAng="-5400000"/>
                <a:lnTo>
                  <a:pt x="21600" y="2793"/>
                </a:lnTo>
                <a:arcTo wR="2793" hR="2793" stAng="0" swAng="-5400000"/>
                <a:close/>
              </a:path>
            </a:pathLst>
          </a:cu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tcl service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poll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chedul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messeng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3" name=""/>
          <p:cNvSpPr/>
          <p:nvPr/>
        </p:nvSpPr>
        <p:spPr>
          <a:xfrm>
            <a:off x="7238880" y="3657600"/>
            <a:ext cx="1650960" cy="507960"/>
          </a:xfrm>
          <a:prstGeom prst="roundRect">
            <a:avLst>
              <a:gd name="adj" fmla="val 37500"/>
            </a:avLst>
          </a:pr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task engin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4" name=""/>
          <p:cNvSpPr/>
          <p:nvPr/>
        </p:nvSpPr>
        <p:spPr>
          <a:xfrm>
            <a:off x="7238880" y="3784680"/>
            <a:ext cx="1778040" cy="507960"/>
          </a:xfrm>
          <a:prstGeom prst="roundRect">
            <a:avLst>
              <a:gd name="adj" fmla="val 37500"/>
            </a:avLst>
          </a:pr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tcl task engine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5" name=""/>
          <p:cNvSpPr/>
          <p:nvPr/>
        </p:nvSpPr>
        <p:spPr>
          <a:xfrm>
            <a:off x="7365960" y="4114800"/>
            <a:ext cx="1778040" cy="507960"/>
          </a:xfrm>
          <a:prstGeom prst="roundRect">
            <a:avLst>
              <a:gd name="adj" fmla="val 37500"/>
            </a:avLst>
          </a:prstGeom>
          <a:solidFill>
            <a:srgbClr val="6c74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tcl task engine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4936680" y="3241440"/>
            <a:ext cx="389160" cy="4237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431040" y="4143240"/>
            <a:ext cx="682560" cy="1159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7346880" y="3211200"/>
            <a:ext cx="169920" cy="25884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816520" y="4795920"/>
            <a:ext cx="1595520" cy="12700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0" name=""/>
          <p:cNvSpPr/>
          <p:nvPr/>
        </p:nvSpPr>
        <p:spPr>
          <a:xfrm>
            <a:off x="4330800" y="8430120"/>
            <a:ext cx="432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to architecture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1" name=""/>
          <p:cNvSpPr/>
          <p:nvPr/>
        </p:nvSpPr>
        <p:spPr>
          <a:xfrm>
            <a:off x="10528200" y="76212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AWS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web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ervic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2" name=""/>
          <p:cNvSpPr/>
          <p:nvPr/>
        </p:nvSpPr>
        <p:spPr>
          <a:xfrm>
            <a:off x="10528200" y="21970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Ecualyptu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web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ervic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3" name=""/>
          <p:cNvSpPr/>
          <p:nvPr/>
        </p:nvSpPr>
        <p:spPr>
          <a:xfrm>
            <a:off x="10528200" y="363204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unix / linux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expect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sh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4" name=""/>
          <p:cNvSpPr/>
          <p:nvPr/>
        </p:nvSpPr>
        <p:spPr>
          <a:xfrm>
            <a:off x="10528200" y="506736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windows tclwinrm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5" name=""/>
          <p:cNvSpPr/>
          <p:nvPr/>
        </p:nvSpPr>
        <p:spPr>
          <a:xfrm>
            <a:off x="10528200" y="650232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Oracle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databas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6" name=""/>
          <p:cNvSpPr/>
          <p:nvPr/>
        </p:nvSpPr>
        <p:spPr>
          <a:xfrm>
            <a:off x="8889840" y="650232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QL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erv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7" name=""/>
          <p:cNvSpPr/>
          <p:nvPr/>
        </p:nvSpPr>
        <p:spPr>
          <a:xfrm>
            <a:off x="7315200" y="650232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8" name=""/>
          <p:cNvSpPr/>
          <p:nvPr/>
        </p:nvSpPr>
        <p:spPr>
          <a:xfrm>
            <a:off x="5867280" y="648972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Cisco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router /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switch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9" name=""/>
          <p:cNvSpPr/>
          <p:nvPr/>
        </p:nvSpPr>
        <p:spPr>
          <a:xfrm>
            <a:off x="4419720" y="648972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http serv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web service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772320" y="4851360"/>
            <a:ext cx="882720" cy="13399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7962840" y="4895640"/>
            <a:ext cx="77760" cy="142380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8783640" y="4838760"/>
            <a:ext cx="542880" cy="137160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9042480" y="4838400"/>
            <a:ext cx="1093680" cy="14158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9194400" y="4393800"/>
            <a:ext cx="1158840" cy="92412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9291600" y="4336920"/>
            <a:ext cx="1036800" cy="5400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9131400" y="3103560"/>
            <a:ext cx="1185840" cy="7192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9004320" y="1801800"/>
            <a:ext cx="1311120" cy="156996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8" name=""/>
          <p:cNvSpPr/>
          <p:nvPr/>
        </p:nvSpPr>
        <p:spPr>
          <a:xfrm>
            <a:off x="698400" y="167652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admin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9" name=""/>
          <p:cNvSpPr/>
          <p:nvPr/>
        </p:nvSpPr>
        <p:spPr>
          <a:xfrm>
            <a:off x="698400" y="316224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developer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0" name=""/>
          <p:cNvSpPr/>
          <p:nvPr/>
        </p:nvSpPr>
        <p:spPr>
          <a:xfrm>
            <a:off x="698400" y="464832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end user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123640" y="2374920"/>
            <a:ext cx="1947960" cy="13240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355320" y="254160"/>
            <a:ext cx="12293640" cy="745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74320" indent="-2743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more clouds apis: Cloud.com CloudStack, VmWare vSphere, Rackspace, Opsource, OpenStack, etc.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marL="274320" indent="-2743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interfaces: rabbitMQ messaging bus, Puppet / Chef integration, RightScale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marL="274320" indent="-2743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packaging apt-get Ubuntu / Debian, rpm Redhat, etc.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marL="274320" indent="-2743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action / task template library, community based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93" name=""/>
          <p:cNvSpPr/>
          <p:nvPr/>
        </p:nvSpPr>
        <p:spPr>
          <a:xfrm>
            <a:off x="5070600" y="804888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to future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135040" y="4556520"/>
            <a:ext cx="27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to demo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55320" y="27936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clcloud - Tcl api for AWS public cloud / Ecualyptus private clou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clwinrm - Tcl api for the Windows remote management protoco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oud Sidekick Cato - open source framework for cloud and enterprise IT automa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55320" y="7099200"/>
            <a:ext cx="122936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</a:rPr>
              <a:t>agenda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876240" y="291960"/>
            <a:ext cx="11239560" cy="679464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1429200" y="8087040"/>
            <a:ext cx="10126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reate actions to enable user self service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571680" y="139680"/>
            <a:ext cx="11861640" cy="71755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312000" y="8061840"/>
            <a:ext cx="636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 user launches an action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1676520" y="-216000"/>
            <a:ext cx="9226440" cy="7518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508400" y="7959960"/>
            <a:ext cx="956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ction launched, view log in browser...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473120" y="0"/>
            <a:ext cx="9491760" cy="77342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133560" y="8569800"/>
            <a:ext cx="12717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... log continued, linux server started and ssh’ing in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264960" y="254160"/>
            <a:ext cx="12458880" cy="75308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2534760" y="8084520"/>
            <a:ext cx="7916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ction = task, task edit interface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drag and drop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355680" y="355320"/>
            <a:ext cx="12369600" cy="784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company site: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hlinkClick r:id="rId2"/>
              </a:rPr>
              <a:t>http://www.cloudsidekick.com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community site: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hlinkClick r:id="rId3"/>
              </a:rPr>
              <a:t>http://community.cloudsidekick.com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github: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hlinkClick r:id="rId4"/>
              </a:rPr>
              <a:t>https://github.com/cloudsidekick/cato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wiki, forum, bug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hlinkClick r:id="rId5"/>
              </a:rPr>
              <a:t>http://projects.cloudsidekick.com/projects/cato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806" name=""/>
          <p:cNvSpPr/>
          <p:nvPr/>
        </p:nvSpPr>
        <p:spPr>
          <a:xfrm>
            <a:off x="3338640" y="8344080"/>
            <a:ext cx="6400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heck it out, get involved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55320" y="2311200"/>
            <a:ext cx="12293640" cy="323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"/>
                <a:ea typeface="Gill Sans"/>
              </a:rPr>
              <a:t>thank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6718320" y="569880"/>
            <a:ext cx="5969160" cy="25416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2425680" y="6464160"/>
            <a:ext cx="8153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trick Dunnigan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hief Architect, Cloud Sidekick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414141"/>
                </a:solidFill>
                <a:uFillTx/>
                <a:latin typeface="Gill Sans Light"/>
                <a:ea typeface="Gill Sans Light"/>
              </a:rPr>
              <a:t>patrick.dunnigan@cloudsidekick.com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witter @CloudSidekick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55320" y="798804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</a:rPr>
              <a:t>show of hands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1714680" y="1955880"/>
            <a:ext cx="835956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355320" y="355680"/>
            <a:ext cx="1229364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hared computing resources, no capital expense (public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on demand, pay only for what you use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scales massively 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elastic, grows and shrink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pi / web service driven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689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loud principles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7315200" y="3797280"/>
            <a:ext cx="483876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932200" y="7823160"/>
            <a:ext cx="68961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iaas - infrastructure as a service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2" name=""/>
          <p:cNvSpPr/>
          <p:nvPr/>
        </p:nvSpPr>
        <p:spPr>
          <a:xfrm>
            <a:off x="63720" y="949680"/>
            <a:ext cx="3027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ublic cloud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838080" y="1943280"/>
            <a:ext cx="2367000" cy="952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9004320" y="4940280"/>
            <a:ext cx="1905120" cy="6984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4"/>
          <a:stretch/>
        </p:blipFill>
        <p:spPr>
          <a:xfrm>
            <a:off x="3505320" y="1066680"/>
            <a:ext cx="3301920" cy="73656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3429000" y="2374920"/>
            <a:ext cx="2590920" cy="495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6"/>
          <a:stretch/>
        </p:blipFill>
        <p:spPr>
          <a:xfrm>
            <a:off x="10515600" y="5765760"/>
            <a:ext cx="1790640" cy="13082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8013960" y="389592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ivate cloud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7"/>
          <a:stretch/>
        </p:blipFill>
        <p:spPr>
          <a:xfrm>
            <a:off x="9410760" y="7213680"/>
            <a:ext cx="2705040" cy="4953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8"/>
          <a:stretch/>
        </p:blipFill>
        <p:spPr>
          <a:xfrm>
            <a:off x="7861320" y="5803920"/>
            <a:ext cx="1650960" cy="1231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9"/>
          <a:stretch/>
        </p:blipFill>
        <p:spPr>
          <a:xfrm>
            <a:off x="1676520" y="3187800"/>
            <a:ext cx="1600200" cy="6984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10"/>
          <a:stretch/>
        </p:blipFill>
        <p:spPr>
          <a:xfrm>
            <a:off x="4089240" y="3137040"/>
            <a:ext cx="1803600" cy="812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305520" y="6105960"/>
            <a:ext cx="1616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hybrid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202360" y="6030720"/>
            <a:ext cx="1692000" cy="24588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5" name=""/>
          <p:cNvSpPr/>
          <p:nvPr/>
        </p:nvSpPr>
        <p:spPr>
          <a:xfrm>
            <a:off x="3720960" y="4514760"/>
            <a:ext cx="314640" cy="1276560"/>
          </a:xfrm>
          <a:prstGeom prst="line">
            <a:avLst/>
          </a:prstGeom>
          <a:ln w="25560">
            <a:solidFill>
              <a:srgbClr val="41414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355320" y="355680"/>
            <a:ext cx="1229364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280440" indent="-2804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Tclcloud - web service cloud api for managing and automating cloud environment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-2804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not abstracted: direct correlation to cloud vendor api actions; a wrapper around the web service client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-2804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currently supports Amazon AWS, Eucalyptu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-2804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near future releases: VMWare vCloud, Cloud.com, Opsource, etc.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-2804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home: https://github.com/cloudsidekick/tclcloud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8044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07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clcloud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355680" y="355320"/>
            <a:ext cx="12369600" cy="784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bootstrap: run virtual servers (EC2 instances), terminate instance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network: (EC2 security groups, VPC - virtual private cloud, elastic ip), define ELBs (Elastic Load Balancers)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monitor: EC2 instances, failover database master to slave, application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administer: add, remove, snapshot EBS volumes and devices, create AMI image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-2772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40"/>
                </a:solidFill>
                <a:latin typeface="Gill Sans Light"/>
              </a:rPr>
              <a:t>high performance computing: run Elastic Map Reduce (Hadoop) jobs</a:t>
            </a:r>
            <a:endParaRPr b="0" lang="en-US" sz="36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  <a:p>
            <a:pPr marL="27720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09" name=""/>
          <p:cNvSpPr/>
          <p:nvPr/>
        </p:nvSpPr>
        <p:spPr>
          <a:xfrm>
            <a:off x="3795840" y="8267760"/>
            <a:ext cx="5168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clcloud uses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527040" y="114480"/>
            <a:ext cx="8229600" cy="29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package require tclcloudset access_key DKE65EEFEETGHJJS7E782Dset secret_key f6gbUsddYr62MFJRi93wWHd8el3drcjE5BnTZf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set ::tclcloud::debug 1set conn [::tclcloud::connection new $access_key $secret_key]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lappend args Filter.1.Name architecture Filter.1.Value.1 x86_64 Filter.2.Name root-device-type Filter.2.Value.1 ebs \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Filter.3.Name name Filter.3.Value.1 {bitnami-wordpress-3.2.1-1-linux-x64-ubuntu-10.04-ebs}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set result [$conn call_aws ec2 {} DescribeImages $args]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</a:rPr>
              <a:t>puts $result$conn destroy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533520" y="3200400"/>
            <a:ext cx="822960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?xml version="1.0" encoding="UTF-8"?&gt;&lt;DescribeImagesResponse xmlns="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2"/>
              </a:rPr>
              <a:t>http://ec2.amazonaws.com/doc/2011-07-15/</a:t>
            </a:r>
            <a:r>
              <a:rPr b="0" lang="en-US" sz="1300" spc="-1" strike="noStrike" u="sng">
                <a:solidFill>
                  <a:srgbClr val="414141"/>
                </a:solidFill>
                <a:uFillTx/>
                <a:latin typeface="Gill Sans Light"/>
                <a:ea typeface="Gill Sans Light"/>
              </a:rPr>
              <a:t>"&gt;    &lt;requestId&gt;e57a67e7-4ae7-453d-907d-c4ab6b33c38f&lt;/requestId&gt;    &lt;imagesSet&gt;        &lt;item&gt;            &lt;imageId&gt;ami-3f7dbd56&lt;/imageId&gt;            &lt;imageLocation&gt;979382823631/bitnami-wordpress-3.2.1-1-linux-x64-ubuntu-10.04-ebs&lt;/imageLocation&gt;            &lt;imageState&gt;available&lt;/imageState&gt;            &lt;imageOwnerId&gt;979382823631&lt;/imageOwnerId&gt;            &lt;isPublic&gt;true&lt;/isPublic&gt;            &lt;architecture&gt;x86_64&lt;/architecture&gt;            &lt;imageType&gt;machine&lt;/imageType&gt;            &lt;kernelId&gt;aki-427d952b&lt;/kernelId&gt;            &lt;name&gt;bitnami-wordpress-3.2.1-1-linux-x64-ubuntu-10.04-ebs&lt;/name&gt;            &lt;description&gt;BitNami Wordpress 3.2.1-1  EBS AMI&lt;/description&gt;            &lt;rootDeviceType&gt;ebs&lt;/rootDeviceType&gt;            &lt;rootDeviceName&gt;/dev/sda1&lt;/rootDeviceName&gt;            &lt;blockDeviceMapping&gt;                &lt;item&gt;                    &lt;deviceName&gt;/dev/sda1&lt;/deviceName&gt;                    &lt;ebs&gt;                        &lt;snapshotId&gt;snap-1c85127c&lt;/snapshotId&gt;                        &lt;volumeSize&gt;10&lt;/volumeSize&gt;                        &lt;deleteOnTermination&gt;true&lt;/deleteOnTermination&gt;                    &lt;/ebs&gt;                &lt;/item&gt;            &lt;/blockDeviceMapping&gt;            &lt;virtualizationType&gt;paravirtual&lt;/virtualizationType&gt;            &lt;hypervisor&gt;xen&lt;/hypervisor&gt;        &lt;/item&gt;    &lt;/imagesSet&gt;&lt;/DescribeImagesResponse&gt;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2" name=""/>
          <p:cNvSpPr/>
          <p:nvPr/>
        </p:nvSpPr>
        <p:spPr>
          <a:xfrm>
            <a:off x="8889840" y="114480"/>
            <a:ext cx="3187800" cy="29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ws api access key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ws secret key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set debug for verbos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define connection objec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tcl list of arguments passed to aw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DescribeImages api call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rint xml result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destroy connection objec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3" name=""/>
          <p:cNvSpPr/>
          <p:nvPr/>
        </p:nvSpPr>
        <p:spPr>
          <a:xfrm>
            <a:off x="8889840" y="3187800"/>
            <a:ext cx="318780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image identifier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64 bit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wordpress imag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elastic block stor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10 gig image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39640" y="101520"/>
            <a:ext cx="8229600" cy="538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... continued ...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ckage require tdom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c strip_namespaces {xml} {        set xmldoc [dom parse -simple $xml]        set root [$xmldoc documentElement]        set xml_no_ns [[$root removeAttribute xmlns] asXML]        $root delete        $xmldoc delete        return $xml_no_ns}proc get_xpath_value {xml path} {        set xmldoc [dom parse -simple $xml]        set root [$xmldoc documentElement]        set value [$root selectNodes string($path)]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$root delete        $xmldoc delete        return $value}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t result [strip_namespaces $result]set imageId [get_xpath_value $result //imageId]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uts "The image is $imageId"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5" name=""/>
          <p:cNvSpPr/>
          <p:nvPr/>
        </p:nvSpPr>
        <p:spPr>
          <a:xfrm>
            <a:off x="8864640" y="101520"/>
            <a:ext cx="3187800" cy="538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tdom to parse xml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 helper procedure using tdom to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remove the namespace from xml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(make it easier)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a helper procedure using tdom to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get data out of xml (simple example,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</a:t>
            </a: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uld be more efficient)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call the strip namespaces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get the image id using xpath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- print image id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6" name=""/>
          <p:cNvSpPr/>
          <p:nvPr/>
        </p:nvSpPr>
        <p:spPr>
          <a:xfrm>
            <a:off x="-323280" y="5746680"/>
            <a:ext cx="1178424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04920" indent="-304920">
              <a:lnSpc>
                <a:spcPct val="120000"/>
              </a:lnSpc>
              <a:spcBef>
                <a:spcPts val="7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use xpath query to extract results from returned dat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7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dom works well for thi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7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xpath tutorial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 Light"/>
                <a:ea typeface="Gill Sans Light"/>
                <a:hlinkClick r:id="rId2"/>
              </a:rPr>
              <a:t>http://www.w3schools.com/xpath/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