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3CAD-B9DB-4174-8CAD-D1730854A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83F1-4F32-47EC-9005-76A462AB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6D2A-D1BC-4161-952F-EAEE87571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02EE-0910-4592-ABD5-419D8EE9D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6342-2718-400A-92F6-539EDE54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3E4C-C6FB-4FD5-BF26-F9658E6F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1803-B4CD-478B-9C5B-2DC60053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7CA0-074C-455B-8A95-E46D88C0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CDE7-DB43-4696-8E24-3063FD1B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41CA-B268-4F06-BF3F-39435A1C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53AB-2D06-49A7-B995-EDF92F1B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8195-18E5-4655-B1B5-20285536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493D-13FA-4129-9D1E-B44856EF1D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with T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set EQP {L {U1 5} {U2 1000}} \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L {F  3.5} {B 45 46 47}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:secs::set EQP {U2 5 10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fo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L {U1 5} {U1 6}} {\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U1 5 6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pment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array EQ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ray set EQP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3 45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ftware {L {A CONCP1} {A 4.433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connect {} …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S&lt;num&gt;F&lt;num&gt; 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.sourceforge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e (www.hume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lib (japanese)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automatic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message protocol    host &lt;-&gt;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storage in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CS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conductor Equipment Communications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over RS-232 or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-byte header followed by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666880"/>
            <a:ext cx="64771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             dev     cmd     sub                id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352680"/>
            <a:ext cx="6553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191120"/>
            <a:ext cx="3886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odd:    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even:   reply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bit:  reply expect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bi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ASC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, U2, U4, U8, I1, I2, I4, I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4, F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410080"/>
            <a:ext cx="3809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mt   len      …………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8195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0 1 2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{this is a strin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{B 0 1 2 3} {A {this is a string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2 100 2000 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his is a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1 1000 2000  -1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I2 1000 2000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6F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 S6F5 {sock dev cmd sub msg id}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:secs::write $sock $dev [expr {$cmd+1}] $sub [list B 0] $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 $msg $sub c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1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1 …..;set msg1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1 $msg1 $sub $c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2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2 …..;set msg2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2 $msg2 $sub $c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i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init host port array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7T05:51:42Z</dcterms:modified>
  <cp:revision>6</cp:revision>
  <dc:subject/>
  <dc:title>PowerPoint Presentation</dc:title>
</cp:coreProperties>
</file>