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45B9-E21F-4E3D-88E8-9D3F11943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0121-1EF4-4009-95C0-86FB1C109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726A-68F5-40D4-BAFB-0C9F35FAA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2433-AABF-4996-9CC9-3BD0B7978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2D8E-AAAD-464B-ADD7-1B5FE2B45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68EB-7346-476D-9151-ACB2D6684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1189-CDE8-4366-BD53-020D03CED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82F3-EEBD-412F-97B7-C55719705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AAAE-2B2A-4885-ABD9-2682DCAF2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5A1C-C1FE-4E50-AF73-032E229E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473A-F607-431B-82B7-B8FC4977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AE4D-074F-434E-BBB4-F69B6148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3679A-BFC6-4959-A88D-F421FC46C4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Zebr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tributed routing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unihiro Ishigu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ital Magic Labs, In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bra daem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apping service around interf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rnel routing table upd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istribute routing information between different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bra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ROUTE_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ROUTE_DEL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ROUTE_LOOK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INTERFACE_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RIP Version1, 2  RIPng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G-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refl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flap dampe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OSPFd and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’s time to develop other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a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daemon has their own terminal interface and configuration 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rrent 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(for *BSD),RIPd,BGPd(dump only)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ML                                 &lt;zebra@digital-magic.co.jp&gt;                           for subscription please write to           &lt;zebra-request@digital-magic.co.jp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Home Page              http://zebra.digital-magic.co.jp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Zebra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is a distributed multi-server multi-thread routing soft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is a free software distributed under G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Modularity,extensibility,maintain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It provides user level packet forwarding table when working with GNU Hu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do we need yet anothe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outing software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nder development software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world with z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One process per one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kernel routing table update and redistribution between different protocols are provided by zebra dae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Other daemons are for protocol hand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Easy to add a new protocol dae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BGP route server and route reflector are integrated into BGP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Zebra archite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3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812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5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55360" y="31240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54840" y="31240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27520" y="312408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01160" y="31240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5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3880" y="4648320"/>
            <a:ext cx="59436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810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9528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7712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59760" y="502920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5105520"/>
            <a:ext cx="838440" cy="6094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81680" y="4114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20968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09680" y="19051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3733920" y="2057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733920" y="205740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8168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5257800" y="22093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257800" y="2209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ts of multiple ser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ncreases modularity, extensibility, maintainabil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allows incremental development of a protocol dae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to add a new protocol without changing other source c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ten easy to 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e servers can be sl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Inter process communication V.S. intra process commun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kernel routing table updates and redistribution would be 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Authentication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Zebra architecture on GNU Hu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388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6272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5308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05320" y="2895480"/>
            <a:ext cx="99036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358128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pfi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639400" y="342900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440" y="342900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81640" y="33526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62720" y="41148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553080" y="41148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05320" y="4114800"/>
            <a:ext cx="9903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4952880"/>
            <a:ext cx="59436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15000" y="419112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05720" y="419112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419112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57600" y="533412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h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010280" y="2209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38480" y="22096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019920" y="23619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38480" y="23623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38480" y="2209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029200" y="2514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038480" y="2514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49400" y="342900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41148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419112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3657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514600" y="3962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92360" y="32767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ok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92360" y="396252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ts of user leve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uting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IP Address  (and destination) based policy rou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 interface routing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much more ideas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38480" y="4876920"/>
            <a:ext cx="990720" cy="60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62320" y="548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62320" y="563868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45200" y="4952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62320" y="60958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60958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4038480" y="4419720"/>
            <a:ext cx="152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4876920" y="44197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5268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1992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02920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548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66880" y="601992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me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57800" y="601992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me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31T16:02:06Z</dcterms:created>
  <dc:creator>Digital Magic Labs, Inc.</dc:creator>
  <dc:description/>
  <dc:language>en-US</dc:language>
  <cp:lastModifiedBy>Digital Magic Labs, Inc.</cp:lastModifiedBy>
  <dcterms:modified xsi:type="dcterms:W3CDTF">1997-06-08T12:35:31Z</dcterms:modified>
  <cp:revision>13</cp:revision>
  <dc:subject/>
  <dc:title>The Zebra Distributed routing system</dc:title>
</cp:coreProperties>
</file>