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18483"/>
        <c:axId val="69700451"/>
      </c:barChart>
      <c:catAx>
        <c:axId val="36818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00451"/>
        <c:crosses val="autoZero"/>
        <c:auto val="1"/>
        <c:lblAlgn val="ctr"/>
        <c:lblOffset val="100"/>
        <c:noMultiLvlLbl val="0"/>
      </c:catAx>
      <c:valAx>
        <c:axId val="69700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18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DC5-AEDD-4AB4-9102-43D60D35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051-12D5-4707-BA0E-0E0C8882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AF6-6984-4A3A-B124-B697456E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CAC-1A71-4E43-B9C2-1A40063B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E06-BB8A-4FA7-9DF7-E0E29115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C9F-73BD-440A-A4FF-2E6548B1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E30-26F8-4C8A-824C-E20DAC36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468-6764-4C18-BA3A-A3AA67AD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745-8F88-4AAF-A59C-93BFB0B5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107-04CE-4285-A2D8-8F3E2E56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D4E-E04B-43FB-96EB-E85F548E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A13-DF6A-4367-A168-391065E7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224C6-BD5E-45A9-B487-4A84D1D5FF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