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73184"/>
        <c:axId val="89307023"/>
      </c:barChart>
      <c:catAx>
        <c:axId val="17973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07023"/>
        <c:crosses val="autoZero"/>
        <c:auto val="1"/>
        <c:lblAlgn val="ctr"/>
        <c:lblOffset val="100"/>
        <c:noMultiLvlLbl val="0"/>
      </c:catAx>
      <c:valAx>
        <c:axId val="89307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73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B2E-C1A3-4BD2-9521-FF4700C6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D67-E3E6-4AB8-BFDD-81AB297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AB3-8FF2-48DB-B402-E67BBAE3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99C-73BC-4004-A28E-0442A23F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A87-1752-4C05-B5D2-F91E6122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942-4F7A-4421-9E59-ECFAA0F6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B0A-FE9C-4826-9AEF-A9B3476E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394-FEB6-49BD-83CC-B3C91BD8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736-D22E-48D3-AA03-EF8BCADC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B77-7A48-4F46-A194-F8D3491D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83D-B48A-414B-88B3-EF0EAE5E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D94A-D3BE-4570-AE3E-3DEC44CC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857B0-7287-4E7B-9DF3-BE915B68B6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