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7337"/>
        <c:axId val="15130233"/>
      </c:barChart>
      <c:catAx>
        <c:axId val="5217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30233"/>
        <c:crosses val="autoZero"/>
        <c:auto val="1"/>
        <c:lblAlgn val="ctr"/>
        <c:lblOffset val="100"/>
        <c:noMultiLvlLbl val="0"/>
      </c:catAx>
      <c:valAx>
        <c:axId val="15130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7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46B-3DC6-4A76-A4D8-6FCF2773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617-1F73-4EC4-9BD0-5A321FE0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E08-A481-4189-985B-33C08285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555-CD52-4AAD-9AB4-9B46DBCE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2F6-515B-4F3C-8084-E7B412EE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F4D-F7BC-4293-9DE1-DFA9B347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43C-C0C3-43FF-8CD7-A3067CFE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965-FFE3-4730-9FE7-CD0478DF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F1B-31F4-45DC-944B-80CD1789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518-3619-4A04-805F-DDB0626F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78F-965A-4F26-A15C-E4318F0D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4C2-3443-4E55-BB71-4456E331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28712-9F22-4FEC-A54B-4EEB4760A3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