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33978"/>
        <c:axId val="41742853"/>
      </c:barChart>
      <c:catAx>
        <c:axId val="47633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42853"/>
        <c:crosses val="autoZero"/>
        <c:auto val="1"/>
        <c:lblAlgn val="ctr"/>
        <c:lblOffset val="100"/>
        <c:noMultiLvlLbl val="0"/>
      </c:catAx>
      <c:valAx>
        <c:axId val="41742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33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DC59-FBDC-4905-B776-8EBBABED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352-730D-4AA9-BFA5-40F3395A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CC3-D1BB-4D10-BEED-19987B3C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620-00B6-4D57-9F18-A3625836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C8E-592C-49C5-9E84-77D27DBA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439F-EA85-4BB9-963B-F999E62B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081-FABC-44FF-9721-BEA65A8C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960-90F6-4EE4-8D68-4CFE3BA5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24A-11F8-44B0-9AC6-6C86FBAE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762-D842-48C7-BBED-7692090D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0D9-3EA5-4796-A534-3CB0010D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123-50FC-4C82-97D9-5309256F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6626D-9660-414C-99B3-04886138C9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