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33327"/>
        <c:axId val="82473935"/>
      </c:barChart>
      <c:catAx>
        <c:axId val="62733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3935"/>
        <c:crosses val="autoZero"/>
        <c:auto val="1"/>
        <c:lblAlgn val="ctr"/>
        <c:lblOffset val="100"/>
        <c:noMultiLvlLbl val="0"/>
      </c:catAx>
      <c:valAx>
        <c:axId val="82473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33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061-5851-4DA2-873B-00805814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2B2-7654-4328-8F2B-78FCCAD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F22-A2CF-48A1-8E04-07FF03B2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979-0E4A-46DC-BCD7-2FEABB00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D32-ED6A-4A4E-B3D4-B4AB7B9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769-87F9-4707-83C8-CF9A987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D29-E454-4BBD-B328-8D57D95E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D75-BD56-46A9-B1B6-F3452212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225-0435-4E53-B2FC-CC3300E9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212-0447-4490-B5D3-DF99176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2F0-9546-41F0-A372-AAEE7DA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424-2697-4FA6-AEF2-AA1EC43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7B5FC-5534-4E59-A0DD-7FC05B55E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