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404801"/>
        <c:axId val="67531489"/>
      </c:barChart>
      <c:catAx>
        <c:axId val="364048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31489"/>
        <c:crosses val="autoZero"/>
        <c:auto val="1"/>
        <c:lblAlgn val="ctr"/>
        <c:lblOffset val="100"/>
        <c:noMultiLvlLbl val="0"/>
      </c:catAx>
      <c:valAx>
        <c:axId val="67531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048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815B-D7CE-4314-9333-35098F2E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B32-5939-4956-9409-F80AC250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C02-5CA1-4F6E-B300-C141CE82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EE5-875C-464F-80B4-F2739780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169-3077-4652-85F9-1999101E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926A-BA9C-473A-8589-36187C4F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D57B-1EF7-4AE4-BAB9-DC1737E5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826-7C20-4DD3-B571-F5E23711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711E-2846-4F89-BC80-18631917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1987-3F53-49BF-A141-1137A80B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4B8-B7A4-42CC-8573-526AE63B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0611-EE01-4CFD-9B2F-7EE908D9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B1703-1262-43DE-BA22-96A1D48A08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