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82674"/>
        <c:axId val="31523818"/>
      </c:barChart>
      <c:catAx>
        <c:axId val="79082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23818"/>
        <c:crosses val="autoZero"/>
        <c:auto val="1"/>
        <c:lblAlgn val="ctr"/>
        <c:lblOffset val="100"/>
        <c:noMultiLvlLbl val="0"/>
      </c:catAx>
      <c:valAx>
        <c:axId val="31523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82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1D3-F081-40A2-A168-0D1CD2D3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55F-5B60-4C33-A448-F3096E6F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BE6-15A3-44B0-9AC9-4DA502C3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6E0-F756-4395-A078-69260755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00D-3B5D-40D8-A5DB-7E27C37E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0DB-5B55-4E97-B4A1-EE0CE6A2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B3D-D727-4FD9-A285-B65D5247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5A4-9E82-47AE-93D0-6D3123FE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9D6-26B9-49A4-9878-31200D18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693-0EA4-4156-8207-B6FE56AB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6F4-4E6C-441F-871B-2CC0F60D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987-6E19-4B42-A1EA-1168CED2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E5E67-5085-4726-BCA3-55A55BC3C8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