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05031"/>
        <c:axId val="65695204"/>
      </c:barChart>
      <c:catAx>
        <c:axId val="35105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95204"/>
        <c:crosses val="autoZero"/>
        <c:auto val="1"/>
        <c:lblAlgn val="ctr"/>
        <c:lblOffset val="100"/>
        <c:noMultiLvlLbl val="0"/>
      </c:catAx>
      <c:valAx>
        <c:axId val="65695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05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C6A-11F2-4F29-9A87-D69CF790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849-F33C-40F9-A807-5F392A4E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940-5339-462C-94BA-3F44AEA8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B55-3606-4A5F-87A3-AB28FCE4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18B-9E60-405C-9FC0-E4339F0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67D-7686-49BB-B5F0-E113044C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427-E67B-41E9-A004-8990350F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295-7452-49E1-8B4C-5C777A8A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793-8DA8-4A19-9D78-B3CD2607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219-0B52-4BED-A844-B9D4BB4E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DB0-9A78-472F-819F-87B71D27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EC0-F952-4DEB-ACD9-998BA465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AACC4-3273-4D7A-BBB1-CD267B1A45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