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284410"/>
        <c:axId val="52020284"/>
      </c:barChart>
      <c:catAx>
        <c:axId val="492844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020284"/>
        <c:crosses val="autoZero"/>
        <c:auto val="1"/>
        <c:lblAlgn val="ctr"/>
        <c:lblOffset val="100"/>
        <c:noMultiLvlLbl val="0"/>
      </c:catAx>
      <c:valAx>
        <c:axId val="520202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844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EFAC-7DED-4962-A503-2F9C474FB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C39A-9F4B-4584-93B6-112CE244B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4187-9FCE-425B-B5C8-55AE4086D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C242-4AFA-4B98-BD1A-18E58711C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D40C-FAE6-41A8-B3BC-5A403121C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89F-0533-4CBE-A727-B7CE11BFD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9C01-D1D5-4F58-872D-D704B328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FC3A-2753-48EC-8E09-1B09D99F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7B2C-2B3C-43EF-A072-2B176E403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161A-4E84-46E9-9347-90D1453B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D17D-4E2A-4236-9756-E66E1E81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4131-E505-475A-8138-4964344F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2051B-94FF-4DA0-99DB-BAAE57BDF6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