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44132"/>
        <c:axId val="71614283"/>
      </c:barChart>
      <c:catAx>
        <c:axId val="61844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4283"/>
        <c:crosses val="autoZero"/>
        <c:auto val="1"/>
        <c:lblAlgn val="ctr"/>
        <c:lblOffset val="100"/>
        <c:noMultiLvlLbl val="0"/>
      </c:catAx>
      <c:valAx>
        <c:axId val="71614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4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448-456E-4010-903B-208F0B92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012-D5C1-4551-A038-C613F8F4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65C-4B74-4EFD-8B18-7BC65384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B3A-2719-4EBC-A352-86F210AD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8E9-E8C4-4C08-8DC3-0FE2017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6D4-2613-4E59-B998-819DBD6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2F2-5E0F-4044-A1CD-8378A0D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2DE-CB9A-45EA-9DBD-6AE80049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B24-5A19-493A-A6E9-5475B910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2C1-9F36-48D6-86AB-5F6AEFE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C18-8708-4C6F-A0A9-4F8F7FE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9F2-5540-4921-AE1D-04C015D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00619-C53F-4F2C-820D-A85AB9A015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