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94774"/>
        <c:axId val="50808702"/>
      </c:barChart>
      <c:catAx>
        <c:axId val="92947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08702"/>
        <c:crosses val="autoZero"/>
        <c:auto val="1"/>
        <c:lblAlgn val="ctr"/>
        <c:lblOffset val="100"/>
        <c:noMultiLvlLbl val="0"/>
      </c:catAx>
      <c:valAx>
        <c:axId val="508087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947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C9E-CC54-47C2-B73D-E10E8D1A2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24C2-C02E-4DD9-982A-806E1388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EBFC-85CF-49BC-AC3E-BF67F425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7EB4-E032-4BF2-A959-A52FF0AA1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7910-E77E-4912-ACD3-05EA52FB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9AF1-CC15-4E1D-85A8-4D7350F2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04FD-049D-45E6-A622-6A208C5C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C28-0ED2-4727-81CC-5AF0425E1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FD55-78F4-4D24-AC10-B465A90A5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46B0-8E01-4E19-BE17-741DD547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C57-3E6B-4B16-9942-5C3BAAA4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8B41-06ED-4917-82A7-6AAD4BDF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79E19-4FD8-42DA-B933-B4022A4855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