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2873134"/>
        <c:axId val="79940323"/>
      </c:barChart>
      <c:catAx>
        <c:axId val="6287313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940323"/>
        <c:crosses val="autoZero"/>
        <c:auto val="1"/>
        <c:lblAlgn val="ctr"/>
        <c:lblOffset val="100"/>
        <c:noMultiLvlLbl val="0"/>
      </c:catAx>
      <c:valAx>
        <c:axId val="7994032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87313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3D851-30A5-4135-95F4-F6CC35DAB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1CBED-EF2A-42FB-9906-9E3EC5026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EF9F6-08FB-461E-8ED7-F40C21514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754A2-29D7-47C1-998C-39AE4F35B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420E9-16FA-48A8-90A5-03AC64F20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47680-CC06-495B-A937-74F53BC20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F97C3-4F5C-4BC8-8EDD-08CAA8989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E5C64-3611-439D-B726-1211E4D1D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416DC-9EE6-40A9-A9E7-B942948E7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EFCE9-1C45-4824-B41C-1A024E1D2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6BBEA-77CF-40FB-898D-B653FEBA9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27ABF-C909-4D59-BB1E-8F1C3643B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E930FF-F1BF-43F1-901A-4F48E64FD64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