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339958"/>
        <c:axId val="36166267"/>
      </c:barChart>
      <c:catAx>
        <c:axId val="773399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166267"/>
        <c:crosses val="autoZero"/>
        <c:auto val="1"/>
        <c:lblAlgn val="ctr"/>
        <c:lblOffset val="100"/>
        <c:noMultiLvlLbl val="0"/>
      </c:catAx>
      <c:valAx>
        <c:axId val="361662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3399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75F0-871E-4257-A7EC-7F4A18A98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B3D4-ECCC-4E15-B076-D2FEE989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EA76-32BD-4670-ADDE-750D50EC0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B3AC-3E4B-465D-BFCD-F3AA1433C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FD4A-16C4-4F7B-8E43-BE67614E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AC16-D289-4B48-91D1-9C387575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71AF-9159-4D3F-8866-7D8CDC49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E324-C36D-46CA-A2A0-EE05E358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AFB7-163A-4E1C-8DEC-3289B6C93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3078-1258-4A39-9875-1D152501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4860-6032-40F6-950C-30D11A08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1C89-1094-4C3F-BDD4-100A6AE2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FC2B9C-9322-4E68-A6D3-2AE535C339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