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11410"/>
        <c:axId val="4154658"/>
      </c:barChart>
      <c:catAx>
        <c:axId val="93911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4658"/>
        <c:crosses val="autoZero"/>
        <c:auto val="1"/>
        <c:lblAlgn val="ctr"/>
        <c:lblOffset val="100"/>
        <c:noMultiLvlLbl val="0"/>
      </c:catAx>
      <c:valAx>
        <c:axId val="4154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11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C86-C976-4937-876B-7476BC5F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B42-0463-4187-80E4-AAB90635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D14-DAE4-497C-9AC6-603FE836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A80-B11C-4842-83DA-8D143991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D5C-184E-49E2-B693-5B335167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648-7A2F-4CF6-B760-3EB3B1B0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3E4-92CD-4F93-9BE6-EE5859A6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91A-D06D-4ADE-B0FB-D30BED59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A4B-CD46-45C3-AB9D-C62109EA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97E2-04B7-430B-9BCD-437C26B8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57B-4B2C-4AA0-871C-09C9ADA2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984-779E-4A95-9F80-4AE6EAF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2C951-AD33-4ADC-BBA4-A3BDEA5823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