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34994"/>
        <c:axId val="63378502"/>
      </c:barChart>
      <c:catAx>
        <c:axId val="99734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78502"/>
        <c:crosses val="autoZero"/>
        <c:auto val="1"/>
        <c:lblAlgn val="ctr"/>
        <c:lblOffset val="100"/>
        <c:noMultiLvlLbl val="0"/>
      </c:catAx>
      <c:valAx>
        <c:axId val="63378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34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6ED-564D-4935-BF35-15ADCDB3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731-1AB3-40BF-BD23-0BDFCBE4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00F-810E-47E4-A24C-25B9CFA6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0D0-67D5-451B-B93F-64FC9BD6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F66-9CEB-42C7-A946-98A4A35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45E-3DE0-4A86-8D34-64E54414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230-95D1-44D0-8BE8-74C99CDB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5AC-81EF-4391-BB5B-759337F5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4A7-C30C-4B8E-92BB-AE0A568B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98E-3FF0-4492-8758-07F731D4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F33-3212-4396-82D4-EB894A34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B9D-67F5-461B-9AD4-6C4E748B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16C52-8555-494D-86AD-B28911A953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