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986270"/>
        <c:axId val="9936169"/>
      </c:barChart>
      <c:catAx>
        <c:axId val="799862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36169"/>
        <c:crosses val="autoZero"/>
        <c:auto val="1"/>
        <c:lblAlgn val="ctr"/>
        <c:lblOffset val="100"/>
        <c:noMultiLvlLbl val="0"/>
      </c:catAx>
      <c:valAx>
        <c:axId val="99361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9862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ED1F-4A7A-454A-93CE-A4655A4B2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6E6A-7898-4365-947E-34B7535FE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8AED-2DFD-43E9-A1F1-67326BEAE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A3B1-8B76-4528-BF86-0DDCA06E5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898D-28AC-44ED-8CA0-8E03FB8D3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C08F-E49F-43B6-B1C2-D856D5DF5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B110-A01B-4309-9CFD-FF47B4B70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999F-1AD5-479E-958C-BFB8F72DF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104F-C8F2-4AAF-BEB5-63BF8D006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C0E6-4264-401B-A7A6-A7A05885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1E0D-FBEF-4A04-87F7-18D346B9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925E-9F1C-423D-9684-31D95477C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5990E0-1E21-471F-AF1C-D12243E8EA7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