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4536120"/>
        <c:axId val="6985349"/>
      </c:barChart>
      <c:catAx>
        <c:axId val="1453612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85349"/>
        <c:crosses val="autoZero"/>
        <c:auto val="1"/>
        <c:lblAlgn val="ctr"/>
        <c:lblOffset val="100"/>
        <c:noMultiLvlLbl val="0"/>
      </c:catAx>
      <c:valAx>
        <c:axId val="698534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53612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BB386-C554-4EA5-B3F1-A0B44EEAF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A629E-5F27-4E2F-BE53-BD32DE21A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0CB7C-B0EF-438F-B93A-6B48D9993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4EB26-CEC6-4E46-ADDA-EF0F35F2D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FDA9C-BBF6-4BA8-A213-E8901F4A2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96324-4D2A-427A-8A1B-D146565B7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A50DD-62D1-48A8-A3C5-8069AB4A7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18EAD-8EFA-4C94-906E-D28DAF5BA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6070A-7620-4B20-BDE0-94BFAF2BD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12EFD-A079-4EF8-9FDB-9C7B44AB1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8FED2-734F-41C7-A8AC-D0FCFDA78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7A42D-FEE0-4076-9E80-9421F1D00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6F57F6-7630-444E-B8C0-EB8A41EE4AB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