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10758"/>
        <c:axId val="78369673"/>
      </c:barChart>
      <c:catAx>
        <c:axId val="95110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9673"/>
        <c:crosses val="autoZero"/>
        <c:auto val="1"/>
        <c:lblAlgn val="ctr"/>
        <c:lblOffset val="100"/>
        <c:noMultiLvlLbl val="0"/>
      </c:catAx>
      <c:valAx>
        <c:axId val="78369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0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60F-0E64-43FB-8FD3-B0A8DB29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0AB-0BB1-41EB-A71B-987940C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419-128A-42D0-B9E7-C0AA73C4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D4B-C6FB-4E72-9EF7-571A1EB3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2AB-CB97-4C34-8ED7-C4C3C5C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678-5D69-4250-B8BF-8BDDB41E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321-9402-477E-B9B9-B8A9E71B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1DA-70DB-47A6-B345-EE9A3A5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D3D-3307-4BB5-93E4-A0F76CD4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1B5-C436-41AE-B9AF-5BD7B51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DE6-0DA1-46F7-9CDE-08A910B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979-36B0-46CB-AD71-5221D5C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861B1-1598-46BC-B46A-08D1BD1863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