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040155"/>
        <c:axId val="55613143"/>
      </c:barChart>
      <c:catAx>
        <c:axId val="720401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13143"/>
        <c:crosses val="autoZero"/>
        <c:auto val="1"/>
        <c:lblAlgn val="ctr"/>
        <c:lblOffset val="100"/>
        <c:noMultiLvlLbl val="0"/>
      </c:catAx>
      <c:valAx>
        <c:axId val="556131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401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1927-EE7C-44ED-B481-D3659F1A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D37B-ECB6-4CC8-9559-4B92BB43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3D81-6C7E-4CE3-B6B4-DDB367DE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1164-6EA8-4000-9BAB-EA6E70891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1878-5F6D-4EAC-A05F-DCA8E503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45BC-BD7B-4F13-BF4F-DC722CCE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8CB6-E760-435D-89E7-FA6DF010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8DAC-5F36-49E3-8317-08F42A54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D843-427C-4597-9BD3-1DA2281E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C111-9508-4169-81D1-3CA86392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4F60-A6B9-4568-9E2B-384FD69F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84ED-7FC7-44B8-B907-1058792C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1597B-BDDA-4BAA-A47E-A87644BC39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